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57200" y="1371600"/>
            <a:ext cx="93726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ad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45"/>
          <p:cNvSpPr/>
          <p:nvPr/>
        </p:nvSpPr>
        <p:spPr>
          <a:xfrm rot="16200000">
            <a:off x="-817200" y="5709960"/>
            <a:ext cx="195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0F44-12FE-48B3-A5DF-1972A183FF83}" type="datetime3">
              <a:rPr b="1" lang="fr-BE" sz="800" spc="-1" strike="noStrike">
                <a:solidFill>
                  <a:srgbClr val="000000"/>
                </a:solidFill>
                <a:latin typeface="Arial"/>
              </a:rPr>
              <a:t>30 juillet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9" descr="nouveau logo carre bleu ULB"/>
          <p:cNvPicPr/>
          <p:nvPr/>
        </p:nvPicPr>
        <p:blipFill>
          <a:blip r:embed="rId2"/>
          <a:stretch/>
        </p:blipFill>
        <p:spPr>
          <a:xfrm>
            <a:off x="9448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5" descr="logo polytech seul"/>
          <p:cNvPicPr/>
          <p:nvPr/>
        </p:nvPicPr>
        <p:blipFill>
          <a:blip r:embed="rId3"/>
          <a:stretch/>
        </p:blipFill>
        <p:spPr>
          <a:xfrm>
            <a:off x="404640" y="6080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7" descr="couleurs fac mai 2013"/>
          <p:cNvPicPr/>
          <p:nvPr/>
        </p:nvPicPr>
        <p:blipFill>
          <a:blip r:embed="rId4"/>
          <a:srcRect l="16040" t="15462" r="18934" b="0"/>
          <a:stretch/>
        </p:blipFill>
        <p:spPr>
          <a:xfrm>
            <a:off x="7574040" y="11160"/>
            <a:ext cx="187776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naissance des lang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82880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r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et, en particulier, connaissance de l'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5800" y="331164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vérifier </a:t>
            </a:r>
            <a:r>
              <a:rPr b="1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très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tôt quelles sont les preuves et / ou attestations req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passer un test internationalement re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</a:t>
            </a:r>
            <a:br>
              <a:rPr sz="2400"/>
            </a:b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chercher les informations auprès de l'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1716120" y="2205000"/>
            <a:ext cx="731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Any further 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610320" y="57405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d luck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712880" y="4076640"/>
            <a:ext cx="7821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ook at the p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"Wiki des Langues de l'ULB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ttp://languesulb.wikispaces.com/Toutes+les+lan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International Certifications</a:t>
            </a:r>
            <a:br>
              <a:rPr sz="3600"/>
            </a:br>
            <a:br>
              <a:rPr sz="3600"/>
            </a:b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of English Language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35080" y="3284640"/>
            <a:ext cx="7239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est of English as a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oEFL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nternational English Language Te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contenu 2"/>
          <p:cNvSpPr/>
          <p:nvPr/>
        </p:nvSpPr>
        <p:spPr>
          <a:xfrm>
            <a:off x="196056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– Americ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s a candid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ability to use and understand English at the univers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ets.org/toefl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LTS – British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designed to assess the language ability of candidates who want to study or work where English is the language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iel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ToEFL 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or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1960560" y="2205000"/>
            <a:ext cx="7313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/ IELTS scores must be obtain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ompile your admissions dossi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fore Decembe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institutions require such tests, some may ask for a letter, please send me an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When to take the tes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96880" y="1940040"/>
            <a:ext cx="8136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ToEFL iBT (Internet-based Test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is tested by computer-generated questions and answers ar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 with detailed tips on : </a:t>
            </a: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http://www.ets.org/s/toefl/flash/17494/TOEFL_Resources_Web_Vide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ToEFL iBT</a:t>
            </a:r>
            <a:br>
              <a:rPr sz="3600"/>
            </a:br>
            <a:br>
              <a:rPr sz="2000"/>
            </a:br>
            <a:r>
              <a:rPr b="1" lang="fr-FR" sz="2000" spc="-1" strike="noStrike">
                <a:solidFill>
                  <a:srgbClr val="3366cc"/>
                </a:solidFill>
                <a:latin typeface="Arial"/>
              </a:rPr>
              <a:t>(Internet-based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24160" y="2403360"/>
            <a:ext cx="7975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Preparation for the ToEFL 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lene Gear and Robert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6" descr="Toefl.jpg"/>
          <p:cNvPicPr/>
          <p:nvPr/>
        </p:nvPicPr>
        <p:blipFill>
          <a:blip r:embed="rId1"/>
          <a:stretch/>
        </p:blipFill>
        <p:spPr>
          <a:xfrm>
            <a:off x="6664320" y="3122640"/>
            <a:ext cx="2536920" cy="325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ToEF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4520" y="1773360"/>
            <a:ext cx="7777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IELTS 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-1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is d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to-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ve spea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chure 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LTS information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900920" y="4076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IE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928880" y="2116080"/>
            <a:ext cx="7272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IELTS 7 Self-study P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mbridge 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05600" y="314172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595520" y="2349360"/>
            <a:ext cx="7821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ry from institution to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check with individual institutions for their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 ToEFL iBT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75 to 92 (/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n IELTS band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6 to 6.5 (/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1+ to B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CE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 Valcke</cp:lastModifiedBy>
  <cp:lastPrinted>2005-08-30T12:32:19Z</cp:lastPrinted>
  <dcterms:modified xsi:type="dcterms:W3CDTF">2013-09-30T10:32:07Z</dcterms:modified>
  <cp:revision>493</cp:revision>
  <dc:subject/>
  <dc:title>Aucun titre de diapositive</dc:title>
</cp:coreProperties>
</file>