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907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457200" y="1371600"/>
            <a:ext cx="9372600" cy="763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dadaf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145"/>
          <p:cNvSpPr/>
          <p:nvPr/>
        </p:nvSpPr>
        <p:spPr>
          <a:xfrm rot="16200000">
            <a:off x="-817200" y="5709960"/>
            <a:ext cx="1955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45A43-EE3C-4D9A-AB7B-30D0E872A095}" type="datetime3">
              <a:rPr b="1" lang="fr-BE" sz="800" spc="-1" strike="noStrike">
                <a:solidFill>
                  <a:srgbClr val="000000"/>
                </a:solidFill>
                <a:latin typeface="Arial"/>
              </a:rPr>
              <a:t>30 juillet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49" descr="nouveau logo carre bleu ULB"/>
          <p:cNvPicPr/>
          <p:nvPr/>
        </p:nvPicPr>
        <p:blipFill>
          <a:blip r:embed="rId2"/>
          <a:stretch/>
        </p:blipFill>
        <p:spPr>
          <a:xfrm>
            <a:off x="9448920" y="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65" descr="logo polytech seul"/>
          <p:cNvPicPr/>
          <p:nvPr/>
        </p:nvPicPr>
        <p:blipFill>
          <a:blip r:embed="rId3"/>
          <a:stretch/>
        </p:blipFill>
        <p:spPr>
          <a:xfrm>
            <a:off x="404640" y="608040"/>
            <a:ext cx="1008360" cy="10080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67" descr="couleurs fac mai 2013"/>
          <p:cNvPicPr/>
          <p:nvPr/>
        </p:nvPicPr>
        <p:blipFill>
          <a:blip r:embed="rId4"/>
          <a:srcRect l="16040" t="15462" r="18934" b="0"/>
          <a:stretch/>
        </p:blipFill>
        <p:spPr>
          <a:xfrm>
            <a:off x="7574040" y="11160"/>
            <a:ext cx="1877760" cy="40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609480"/>
            <a:ext cx="8153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66cc"/>
                </a:solidFill>
                <a:latin typeface="Arial"/>
              </a:rPr>
              <a:t>Connaissance des lang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685800" y="1828800"/>
            <a:ext cx="90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374760" algn="r">
              <a:tabLst>
                <a:tab algn="l" pos="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  <a:tab algn="l" pos="7867800"/>
              </a:tabLst>
            </a:pPr>
            <a:r>
              <a:rPr b="1" lang="fr-FR" sz="2400" spc="-1" strike="noStrike">
                <a:solidFill>
                  <a:srgbClr val="3366cc"/>
                </a:solidFill>
                <a:latin typeface="Arial"/>
              </a:rPr>
              <a:t>et, en particulier, connaissance de l'Angl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685800" y="3311640"/>
            <a:ext cx="883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374760">
              <a:buClr>
                <a:srgbClr val="000066"/>
              </a:buClr>
              <a:buFont typeface="Arial"/>
              <a:buChar char="•"/>
              <a:tabLst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  <a:tab algn="l" pos="78678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vérifier </a:t>
            </a:r>
            <a:r>
              <a:rPr b="1" lang="fr-FR" sz="2400" spc="-1" strike="noStrike" u="sng">
                <a:solidFill>
                  <a:srgbClr val="000066"/>
                </a:solidFill>
                <a:uFillTx/>
                <a:latin typeface="Arial"/>
              </a:rPr>
              <a:t>très</a:t>
            </a: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 tôt quelles sont les preuves et / ou attestations requ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374760">
              <a:buClr>
                <a:srgbClr val="000066"/>
              </a:buClr>
              <a:buFont typeface="Arial"/>
              <a:buChar char="•"/>
              <a:tabLst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  <a:tab algn="l" pos="78678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374760">
              <a:buClr>
                <a:srgbClr val="000066"/>
              </a:buClr>
              <a:buFont typeface="Arial"/>
              <a:buChar char="•"/>
              <a:tabLst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  <a:tab algn="l" pos="7867800"/>
              </a:tabLst>
            </a:pPr>
            <a:r>
              <a:rPr b="1" lang="fr-BE" sz="2400" spc="-1" strike="noStrike">
                <a:solidFill>
                  <a:srgbClr val="000066"/>
                </a:solidFill>
                <a:latin typeface="Arial"/>
              </a:rPr>
              <a:t>dans le doute 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374760">
              <a:tabLst>
                <a:tab algn="l" pos="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  <a:tab algn="l" pos="7867800"/>
              </a:tabLst>
            </a:pPr>
            <a:r>
              <a:rPr b="1" lang="fr-BE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fr-BE" sz="2400" spc="-1" strike="noStrike">
                <a:solidFill>
                  <a:srgbClr val="000066"/>
                </a:solidFill>
                <a:latin typeface="Arial"/>
              </a:rPr>
              <a:t>passer un test internationalement recon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374760">
              <a:tabLst>
                <a:tab algn="l" pos="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  <a:tab algn="l" pos="78678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374760">
              <a:buClr>
                <a:srgbClr val="000066"/>
              </a:buClr>
              <a:buFont typeface="Arial"/>
              <a:buChar char="•"/>
              <a:tabLst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  <a:tab algn="l" pos="7867800"/>
              </a:tabLst>
            </a:pPr>
            <a:r>
              <a:rPr b="1" lang="fr-BE" sz="2400" spc="-1" strike="noStrike">
                <a:solidFill>
                  <a:srgbClr val="000066"/>
                </a:solidFill>
                <a:latin typeface="Arial"/>
              </a:rPr>
              <a:t>dans le doute ...</a:t>
            </a:r>
            <a:br>
              <a:rPr sz="2400"/>
            </a:br>
            <a:r>
              <a:rPr b="1" lang="fr-BE" sz="2400" spc="-1" strike="noStrike">
                <a:solidFill>
                  <a:srgbClr val="000066"/>
                </a:solidFill>
                <a:latin typeface="Arial"/>
              </a:rPr>
              <a:t>chercher les informations auprès de l'instit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AutoShape 2"/>
          <p:cNvSpPr/>
          <p:nvPr/>
        </p:nvSpPr>
        <p:spPr>
          <a:xfrm>
            <a:off x="-2319480" y="2408400"/>
            <a:ext cx="3678480" cy="36576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44083" y="2368"/>
                </a:moveTo>
                <a:cubicBezTo>
                  <a:pt x="56127" y="7280"/>
                  <a:pt x="64000" y="18993"/>
                  <a:pt x="64000" y="32000"/>
                </a:cubicBezTo>
                <a:cubicBezTo>
                  <a:pt x="64000" y="45006"/>
                  <a:pt x="56127" y="56719"/>
                  <a:pt x="44083" y="61631"/>
                </a:cubicBezTo>
                <a:cubicBezTo>
                  <a:pt x="44082" y="61631"/>
                  <a:pt x="44082" y="61631"/>
                  <a:pt x="44082" y="61631"/>
                </a:cubicBezTo>
                <a:lnTo>
                  <a:pt x="44083" y="61632"/>
                </a:lnTo>
                <a:lnTo>
                  <a:pt x="44083" y="2368"/>
                </a:lnTo>
                <a:lnTo>
                  <a:pt x="44082" y="2368"/>
                </a:lnTo>
                <a:cubicBezTo>
                  <a:pt x="44082" y="2368"/>
                  <a:pt x="44082" y="2368"/>
                  <a:pt x="44083" y="2368"/>
                </a:cubicBez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"/>
          <p:cNvSpPr/>
          <p:nvPr/>
        </p:nvSpPr>
        <p:spPr>
          <a:xfrm>
            <a:off x="-3006720" y="1341360"/>
            <a:ext cx="4038480" cy="403884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50994" y="6246"/>
                </a:moveTo>
                <a:cubicBezTo>
                  <a:pt x="59172" y="12279"/>
                  <a:pt x="64000" y="21837"/>
                  <a:pt x="64000" y="32000"/>
                </a:cubicBezTo>
                <a:cubicBezTo>
                  <a:pt x="64000" y="42162"/>
                  <a:pt x="59172" y="51720"/>
                  <a:pt x="50994" y="57753"/>
                </a:cubicBezTo>
                <a:cubicBezTo>
                  <a:pt x="50993" y="57753"/>
                  <a:pt x="50993" y="57753"/>
                  <a:pt x="50993" y="57753"/>
                </a:cubicBezTo>
                <a:lnTo>
                  <a:pt x="50994" y="57754"/>
                </a:lnTo>
                <a:lnTo>
                  <a:pt x="50994" y="6246"/>
                </a:lnTo>
                <a:lnTo>
                  <a:pt x="50993" y="6246"/>
                </a:lnTo>
                <a:cubicBezTo>
                  <a:pt x="50993" y="6246"/>
                  <a:pt x="50993" y="6246"/>
                  <a:pt x="50994" y="6246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Espace réservé du contenu 2"/>
          <p:cNvSpPr/>
          <p:nvPr/>
        </p:nvSpPr>
        <p:spPr>
          <a:xfrm>
            <a:off x="1716120" y="2205000"/>
            <a:ext cx="731376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8000"/>
                </a:solidFill>
                <a:latin typeface="Arial"/>
              </a:rPr>
              <a:t>Jennifer.Valcke@ulb.ac.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609480"/>
            <a:ext cx="8153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66cc"/>
                </a:solidFill>
                <a:latin typeface="Arial"/>
              </a:rPr>
              <a:t>Any further Questions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6610320" y="5740560"/>
            <a:ext cx="249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Good luck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1712880" y="4076640"/>
            <a:ext cx="78217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a look at the page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"Wiki des Langues de l'ULB"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http://languesulb.wikispaces.com/Toutes+les+lang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4920" y="609480"/>
            <a:ext cx="8153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66cc"/>
                </a:solidFill>
                <a:latin typeface="Arial"/>
              </a:rPr>
              <a:t>International Certifications</a:t>
            </a:r>
            <a:br>
              <a:rPr sz="3600"/>
            </a:br>
            <a:br>
              <a:rPr sz="3600"/>
            </a:br>
            <a:r>
              <a:rPr b="1" lang="fr-FR" sz="3600" spc="-1" strike="noStrike">
                <a:solidFill>
                  <a:srgbClr val="3366cc"/>
                </a:solidFill>
                <a:latin typeface="Arial"/>
              </a:rPr>
              <a:t>of English Language Compet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-2319480" y="2408400"/>
            <a:ext cx="3678480" cy="36576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44083" y="2368"/>
                </a:moveTo>
                <a:cubicBezTo>
                  <a:pt x="56127" y="7280"/>
                  <a:pt x="64000" y="18993"/>
                  <a:pt x="64000" y="32000"/>
                </a:cubicBezTo>
                <a:cubicBezTo>
                  <a:pt x="64000" y="45006"/>
                  <a:pt x="56127" y="56719"/>
                  <a:pt x="44083" y="61631"/>
                </a:cubicBezTo>
                <a:cubicBezTo>
                  <a:pt x="44082" y="61631"/>
                  <a:pt x="44082" y="61631"/>
                  <a:pt x="44082" y="61631"/>
                </a:cubicBezTo>
                <a:lnTo>
                  <a:pt x="44083" y="61632"/>
                </a:lnTo>
                <a:lnTo>
                  <a:pt x="44083" y="2368"/>
                </a:lnTo>
                <a:lnTo>
                  <a:pt x="44082" y="2368"/>
                </a:lnTo>
                <a:cubicBezTo>
                  <a:pt x="44082" y="2368"/>
                  <a:pt x="44082" y="2368"/>
                  <a:pt x="44083" y="2368"/>
                </a:cubicBez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-3006720" y="1341360"/>
            <a:ext cx="4038480" cy="403884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50994" y="6246"/>
                </a:moveTo>
                <a:cubicBezTo>
                  <a:pt x="59172" y="12279"/>
                  <a:pt x="64000" y="21837"/>
                  <a:pt x="64000" y="32000"/>
                </a:cubicBezTo>
                <a:cubicBezTo>
                  <a:pt x="64000" y="42162"/>
                  <a:pt x="59172" y="51720"/>
                  <a:pt x="50994" y="57753"/>
                </a:cubicBezTo>
                <a:cubicBezTo>
                  <a:pt x="50993" y="57753"/>
                  <a:pt x="50993" y="57753"/>
                  <a:pt x="50993" y="57753"/>
                </a:cubicBezTo>
                <a:lnTo>
                  <a:pt x="50994" y="57754"/>
                </a:lnTo>
                <a:lnTo>
                  <a:pt x="50994" y="6246"/>
                </a:lnTo>
                <a:lnTo>
                  <a:pt x="50993" y="6246"/>
                </a:lnTo>
                <a:cubicBezTo>
                  <a:pt x="50993" y="6246"/>
                  <a:pt x="50993" y="6246"/>
                  <a:pt x="50994" y="6246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2035080" y="3284640"/>
            <a:ext cx="7239240" cy="27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Test of English as a Foreign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ToEFL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Arial"/>
              </a:rPr>
              <a:t>International English Language Test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Arial"/>
              </a:rPr>
              <a:t>IE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Espace réservé du contenu 2"/>
          <p:cNvSpPr/>
          <p:nvPr/>
        </p:nvSpPr>
        <p:spPr>
          <a:xfrm>
            <a:off x="196056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EFL – American Eng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sures a candidat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 ability to use and understand English at the universit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http://www.ets.org/toefl</a:t>
            </a:r>
            <a:br>
              <a:rPr sz="2400"/>
            </a:b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LTS – British Eng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designed to assess the language ability of candidates who want to study or work where English is the language of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http://www.ielts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2"/>
          <p:cNvSpPr/>
          <p:nvPr/>
        </p:nvSpPr>
        <p:spPr>
          <a:xfrm>
            <a:off x="-2319480" y="2408400"/>
            <a:ext cx="3678480" cy="36576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44083" y="2368"/>
                </a:moveTo>
                <a:cubicBezTo>
                  <a:pt x="56127" y="7280"/>
                  <a:pt x="64000" y="18993"/>
                  <a:pt x="64000" y="32000"/>
                </a:cubicBezTo>
                <a:cubicBezTo>
                  <a:pt x="64000" y="45006"/>
                  <a:pt x="56127" y="56719"/>
                  <a:pt x="44083" y="61631"/>
                </a:cubicBezTo>
                <a:cubicBezTo>
                  <a:pt x="44082" y="61631"/>
                  <a:pt x="44082" y="61631"/>
                  <a:pt x="44082" y="61631"/>
                </a:cubicBezTo>
                <a:lnTo>
                  <a:pt x="44083" y="61632"/>
                </a:lnTo>
                <a:lnTo>
                  <a:pt x="44083" y="2368"/>
                </a:lnTo>
                <a:lnTo>
                  <a:pt x="44082" y="2368"/>
                </a:lnTo>
                <a:cubicBezTo>
                  <a:pt x="44082" y="2368"/>
                  <a:pt x="44082" y="2368"/>
                  <a:pt x="44083" y="2368"/>
                </a:cubicBez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>
            <a:off x="-3006720" y="1341360"/>
            <a:ext cx="4038480" cy="403884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50994" y="6246"/>
                </a:moveTo>
                <a:cubicBezTo>
                  <a:pt x="59172" y="12279"/>
                  <a:pt x="64000" y="21837"/>
                  <a:pt x="64000" y="32000"/>
                </a:cubicBezTo>
                <a:cubicBezTo>
                  <a:pt x="64000" y="42162"/>
                  <a:pt x="59172" y="51720"/>
                  <a:pt x="50994" y="57753"/>
                </a:cubicBezTo>
                <a:cubicBezTo>
                  <a:pt x="50993" y="57753"/>
                  <a:pt x="50993" y="57753"/>
                  <a:pt x="50993" y="57753"/>
                </a:cubicBezTo>
                <a:lnTo>
                  <a:pt x="50994" y="57754"/>
                </a:lnTo>
                <a:lnTo>
                  <a:pt x="50994" y="6246"/>
                </a:lnTo>
                <a:lnTo>
                  <a:pt x="50993" y="6246"/>
                </a:lnTo>
                <a:cubicBezTo>
                  <a:pt x="50993" y="6246"/>
                  <a:pt x="50993" y="6246"/>
                  <a:pt x="50994" y="6246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4920" y="609480"/>
            <a:ext cx="8153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66cc"/>
                </a:solidFill>
                <a:latin typeface="Arial"/>
              </a:rPr>
              <a:t>ToEFL  </a:t>
            </a:r>
            <a:r>
              <a:rPr b="1" lang="fr-FR" sz="2400" spc="-1" strike="noStrike">
                <a:solidFill>
                  <a:srgbClr val="3366cc"/>
                </a:solidFill>
                <a:latin typeface="Arial"/>
              </a:rPr>
              <a:t>or</a:t>
            </a:r>
            <a:r>
              <a:rPr b="1" lang="fr-FR" sz="3600" spc="-1" strike="noStrike">
                <a:solidFill>
                  <a:srgbClr val="3366cc"/>
                </a:solidFill>
                <a:latin typeface="Arial"/>
              </a:rPr>
              <a:t>  IELTS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utoShape 2"/>
          <p:cNvSpPr/>
          <p:nvPr/>
        </p:nvSpPr>
        <p:spPr>
          <a:xfrm>
            <a:off x="-2319480" y="2408400"/>
            <a:ext cx="3678480" cy="36576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44083" y="2368"/>
                </a:moveTo>
                <a:cubicBezTo>
                  <a:pt x="56127" y="7280"/>
                  <a:pt x="64000" y="18993"/>
                  <a:pt x="64000" y="32000"/>
                </a:cubicBezTo>
                <a:cubicBezTo>
                  <a:pt x="64000" y="45006"/>
                  <a:pt x="56127" y="56719"/>
                  <a:pt x="44083" y="61631"/>
                </a:cubicBezTo>
                <a:cubicBezTo>
                  <a:pt x="44082" y="61631"/>
                  <a:pt x="44082" y="61631"/>
                  <a:pt x="44082" y="61631"/>
                </a:cubicBezTo>
                <a:lnTo>
                  <a:pt x="44083" y="61632"/>
                </a:lnTo>
                <a:lnTo>
                  <a:pt x="44083" y="2368"/>
                </a:lnTo>
                <a:lnTo>
                  <a:pt x="44082" y="2368"/>
                </a:lnTo>
                <a:cubicBezTo>
                  <a:pt x="44082" y="2368"/>
                  <a:pt x="44082" y="2368"/>
                  <a:pt x="44083" y="2368"/>
                </a:cubicBez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3"/>
          <p:cNvSpPr/>
          <p:nvPr/>
        </p:nvSpPr>
        <p:spPr>
          <a:xfrm>
            <a:off x="-3006720" y="1341360"/>
            <a:ext cx="4038480" cy="403884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50994" y="6246"/>
                </a:moveTo>
                <a:cubicBezTo>
                  <a:pt x="59172" y="12279"/>
                  <a:pt x="64000" y="21837"/>
                  <a:pt x="64000" y="32000"/>
                </a:cubicBezTo>
                <a:cubicBezTo>
                  <a:pt x="64000" y="42162"/>
                  <a:pt x="59172" y="51720"/>
                  <a:pt x="50994" y="57753"/>
                </a:cubicBezTo>
                <a:cubicBezTo>
                  <a:pt x="50993" y="57753"/>
                  <a:pt x="50993" y="57753"/>
                  <a:pt x="50993" y="57753"/>
                </a:cubicBezTo>
                <a:lnTo>
                  <a:pt x="50994" y="57754"/>
                </a:lnTo>
                <a:lnTo>
                  <a:pt x="50994" y="6246"/>
                </a:lnTo>
                <a:lnTo>
                  <a:pt x="50993" y="6246"/>
                </a:lnTo>
                <a:cubicBezTo>
                  <a:pt x="50993" y="6246"/>
                  <a:pt x="50993" y="6246"/>
                  <a:pt x="50994" y="6246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Espace réservé du contenu 2"/>
          <p:cNvSpPr/>
          <p:nvPr/>
        </p:nvSpPr>
        <p:spPr>
          <a:xfrm>
            <a:off x="1960560" y="2205000"/>
            <a:ext cx="73137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EFL / IELTS scores must be obtaine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ou compile your admissions dossi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efore December)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 all institutions require such tests, some may ask for a letter, please send me an e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Jennifer.Valcke@ulb.ac.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4920" y="609480"/>
            <a:ext cx="8153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66cc"/>
                </a:solidFill>
                <a:latin typeface="Arial"/>
              </a:rPr>
              <a:t>When to take the test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2"/>
          <p:cNvSpPr/>
          <p:nvPr/>
        </p:nvSpPr>
        <p:spPr>
          <a:xfrm>
            <a:off x="-2319480" y="2408400"/>
            <a:ext cx="3678480" cy="36576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44083" y="2368"/>
                </a:moveTo>
                <a:cubicBezTo>
                  <a:pt x="56127" y="7280"/>
                  <a:pt x="64000" y="18993"/>
                  <a:pt x="64000" y="32000"/>
                </a:cubicBezTo>
                <a:cubicBezTo>
                  <a:pt x="64000" y="45006"/>
                  <a:pt x="56127" y="56719"/>
                  <a:pt x="44083" y="61631"/>
                </a:cubicBezTo>
                <a:cubicBezTo>
                  <a:pt x="44082" y="61631"/>
                  <a:pt x="44082" y="61631"/>
                  <a:pt x="44082" y="61631"/>
                </a:cubicBezTo>
                <a:lnTo>
                  <a:pt x="44083" y="61632"/>
                </a:lnTo>
                <a:lnTo>
                  <a:pt x="44083" y="2368"/>
                </a:lnTo>
                <a:lnTo>
                  <a:pt x="44082" y="2368"/>
                </a:lnTo>
                <a:cubicBezTo>
                  <a:pt x="44082" y="2368"/>
                  <a:pt x="44082" y="2368"/>
                  <a:pt x="44083" y="2368"/>
                </a:cubicBez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"/>
          <p:cNvSpPr/>
          <p:nvPr/>
        </p:nvSpPr>
        <p:spPr>
          <a:xfrm>
            <a:off x="-3006720" y="1341360"/>
            <a:ext cx="4038480" cy="403884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50994" y="6246"/>
                </a:moveTo>
                <a:cubicBezTo>
                  <a:pt x="59172" y="12279"/>
                  <a:pt x="64000" y="21837"/>
                  <a:pt x="64000" y="32000"/>
                </a:cubicBezTo>
                <a:cubicBezTo>
                  <a:pt x="64000" y="42162"/>
                  <a:pt x="59172" y="51720"/>
                  <a:pt x="50994" y="57753"/>
                </a:cubicBezTo>
                <a:cubicBezTo>
                  <a:pt x="50993" y="57753"/>
                  <a:pt x="50993" y="57753"/>
                  <a:pt x="50993" y="57753"/>
                </a:cubicBezTo>
                <a:lnTo>
                  <a:pt x="50994" y="57754"/>
                </a:lnTo>
                <a:lnTo>
                  <a:pt x="50994" y="6246"/>
                </a:lnTo>
                <a:lnTo>
                  <a:pt x="50993" y="6246"/>
                </a:lnTo>
                <a:cubicBezTo>
                  <a:pt x="50993" y="6246"/>
                  <a:pt x="50993" y="6246"/>
                  <a:pt x="50994" y="6246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1496880" y="1940040"/>
            <a:ext cx="813600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he ToEFL iBT (Internet-based Test)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ests all four language skills :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ading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30 points)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0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stening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30 points)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5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riting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30 points)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0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eaking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30 points)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eaking is tested by computer-generated questions and answers are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deo with detailed tips on : </a:t>
            </a:r>
            <a:r>
              <a:rPr b="1" lang="en-US" sz="1600" spc="-1" strike="noStrike" u="sng">
                <a:solidFill>
                  <a:srgbClr val="008000"/>
                </a:solidFill>
                <a:uFillTx/>
                <a:latin typeface="Arial"/>
                <a:ea typeface="ＭＳ Ｐゴシック"/>
              </a:rPr>
              <a:t>http://www.ets.org/s/toefl/flash/17494/TOEFL_Resources_Web_Video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4920" y="609480"/>
            <a:ext cx="8153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66cc"/>
                </a:solidFill>
                <a:latin typeface="Arial"/>
              </a:rPr>
              <a:t>Format of the ToEFL iBT</a:t>
            </a:r>
            <a:br>
              <a:rPr sz="3600"/>
            </a:br>
            <a:br>
              <a:rPr sz="2000"/>
            </a:br>
            <a:r>
              <a:rPr b="1" lang="fr-FR" sz="2000" spc="-1" strike="noStrike">
                <a:solidFill>
                  <a:srgbClr val="3366cc"/>
                </a:solidFill>
                <a:latin typeface="Arial"/>
              </a:rPr>
              <a:t>(Internet-based te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AutoShape 2"/>
          <p:cNvSpPr/>
          <p:nvPr/>
        </p:nvSpPr>
        <p:spPr>
          <a:xfrm>
            <a:off x="-2319480" y="2408400"/>
            <a:ext cx="3678480" cy="36576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44083" y="2368"/>
                </a:moveTo>
                <a:cubicBezTo>
                  <a:pt x="56127" y="7280"/>
                  <a:pt x="64000" y="18993"/>
                  <a:pt x="64000" y="32000"/>
                </a:cubicBezTo>
                <a:cubicBezTo>
                  <a:pt x="64000" y="45006"/>
                  <a:pt x="56127" y="56719"/>
                  <a:pt x="44083" y="61631"/>
                </a:cubicBezTo>
                <a:cubicBezTo>
                  <a:pt x="44082" y="61631"/>
                  <a:pt x="44082" y="61631"/>
                  <a:pt x="44082" y="61631"/>
                </a:cubicBezTo>
                <a:lnTo>
                  <a:pt x="44083" y="61632"/>
                </a:lnTo>
                <a:lnTo>
                  <a:pt x="44083" y="2368"/>
                </a:lnTo>
                <a:lnTo>
                  <a:pt x="44082" y="2368"/>
                </a:lnTo>
                <a:cubicBezTo>
                  <a:pt x="44082" y="2368"/>
                  <a:pt x="44082" y="2368"/>
                  <a:pt x="44083" y="2368"/>
                </a:cubicBez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"/>
          <p:cNvSpPr/>
          <p:nvPr/>
        </p:nvSpPr>
        <p:spPr>
          <a:xfrm>
            <a:off x="-3006720" y="1341360"/>
            <a:ext cx="4038480" cy="403884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50994" y="6246"/>
                </a:moveTo>
                <a:cubicBezTo>
                  <a:pt x="59172" y="12279"/>
                  <a:pt x="64000" y="21837"/>
                  <a:pt x="64000" y="32000"/>
                </a:cubicBezTo>
                <a:cubicBezTo>
                  <a:pt x="64000" y="42162"/>
                  <a:pt x="59172" y="51720"/>
                  <a:pt x="50994" y="57753"/>
                </a:cubicBezTo>
                <a:cubicBezTo>
                  <a:pt x="50993" y="57753"/>
                  <a:pt x="50993" y="57753"/>
                  <a:pt x="50993" y="57753"/>
                </a:cubicBezTo>
                <a:lnTo>
                  <a:pt x="50994" y="57754"/>
                </a:lnTo>
                <a:lnTo>
                  <a:pt x="50994" y="6246"/>
                </a:lnTo>
                <a:lnTo>
                  <a:pt x="50993" y="6246"/>
                </a:lnTo>
                <a:cubicBezTo>
                  <a:pt x="50993" y="6246"/>
                  <a:pt x="50993" y="6246"/>
                  <a:pt x="50994" y="6246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1424160" y="2403360"/>
            <a:ext cx="7975440" cy="35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bridge Preparation for the ToEFL Tes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Jolene Gear and Robert G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Image 6" descr="Toefl.jpg"/>
          <p:cNvPicPr/>
          <p:nvPr/>
        </p:nvPicPr>
        <p:blipFill>
          <a:blip r:embed="rId1"/>
          <a:stretch/>
        </p:blipFill>
        <p:spPr>
          <a:xfrm>
            <a:off x="6664320" y="3122640"/>
            <a:ext cx="2536920" cy="32590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4920" y="609480"/>
            <a:ext cx="8153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66cc"/>
                </a:solidFill>
                <a:latin typeface="Arial"/>
              </a:rPr>
              <a:t>How to prepare for the ToEFL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AutoShape 2"/>
          <p:cNvSpPr/>
          <p:nvPr/>
        </p:nvSpPr>
        <p:spPr>
          <a:xfrm>
            <a:off x="-2319480" y="2408400"/>
            <a:ext cx="3678480" cy="36576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44083" y="2368"/>
                </a:moveTo>
                <a:cubicBezTo>
                  <a:pt x="56127" y="7280"/>
                  <a:pt x="64000" y="18993"/>
                  <a:pt x="64000" y="32000"/>
                </a:cubicBezTo>
                <a:cubicBezTo>
                  <a:pt x="64000" y="45006"/>
                  <a:pt x="56127" y="56719"/>
                  <a:pt x="44083" y="61631"/>
                </a:cubicBezTo>
                <a:cubicBezTo>
                  <a:pt x="44082" y="61631"/>
                  <a:pt x="44082" y="61631"/>
                  <a:pt x="44082" y="61631"/>
                </a:cubicBezTo>
                <a:lnTo>
                  <a:pt x="44083" y="61632"/>
                </a:lnTo>
                <a:lnTo>
                  <a:pt x="44083" y="2368"/>
                </a:lnTo>
                <a:lnTo>
                  <a:pt x="44082" y="2368"/>
                </a:lnTo>
                <a:cubicBezTo>
                  <a:pt x="44082" y="2368"/>
                  <a:pt x="44082" y="2368"/>
                  <a:pt x="44083" y="2368"/>
                </a:cubicBez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-3006720" y="1341360"/>
            <a:ext cx="4038480" cy="403884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50994" y="6246"/>
                </a:moveTo>
                <a:cubicBezTo>
                  <a:pt x="59172" y="12279"/>
                  <a:pt x="64000" y="21837"/>
                  <a:pt x="64000" y="32000"/>
                </a:cubicBezTo>
                <a:cubicBezTo>
                  <a:pt x="64000" y="42162"/>
                  <a:pt x="59172" y="51720"/>
                  <a:pt x="50994" y="57753"/>
                </a:cubicBezTo>
                <a:cubicBezTo>
                  <a:pt x="50993" y="57753"/>
                  <a:pt x="50993" y="57753"/>
                  <a:pt x="50993" y="57753"/>
                </a:cubicBezTo>
                <a:lnTo>
                  <a:pt x="50994" y="57754"/>
                </a:lnTo>
                <a:lnTo>
                  <a:pt x="50994" y="6246"/>
                </a:lnTo>
                <a:lnTo>
                  <a:pt x="50993" y="6246"/>
                </a:lnTo>
                <a:cubicBezTo>
                  <a:pt x="50993" y="6246"/>
                  <a:pt x="50993" y="6246"/>
                  <a:pt x="50994" y="6246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784520" y="1773360"/>
            <a:ext cx="7777080" cy="46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he IELTS tests all four language skills :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ading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0 question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0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stening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0 question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0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riting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 part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0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eaking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 parts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-14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aking is don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e-to-f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ative speak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chure :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ELTS information for candi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7900920" y="4076640"/>
            <a:ext cx="1947960" cy="27370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609480"/>
            <a:ext cx="8153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66cc"/>
                </a:solidFill>
                <a:latin typeface="Arial"/>
              </a:rPr>
              <a:t>Format of the IE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2"/>
          <p:cNvSpPr/>
          <p:nvPr/>
        </p:nvSpPr>
        <p:spPr>
          <a:xfrm>
            <a:off x="-2319480" y="2408400"/>
            <a:ext cx="3678480" cy="36576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44083" y="2368"/>
                </a:moveTo>
                <a:cubicBezTo>
                  <a:pt x="56127" y="7280"/>
                  <a:pt x="64000" y="18993"/>
                  <a:pt x="64000" y="32000"/>
                </a:cubicBezTo>
                <a:cubicBezTo>
                  <a:pt x="64000" y="45006"/>
                  <a:pt x="56127" y="56719"/>
                  <a:pt x="44083" y="61631"/>
                </a:cubicBezTo>
                <a:cubicBezTo>
                  <a:pt x="44082" y="61631"/>
                  <a:pt x="44082" y="61631"/>
                  <a:pt x="44082" y="61631"/>
                </a:cubicBezTo>
                <a:lnTo>
                  <a:pt x="44083" y="61632"/>
                </a:lnTo>
                <a:lnTo>
                  <a:pt x="44083" y="2368"/>
                </a:lnTo>
                <a:lnTo>
                  <a:pt x="44082" y="2368"/>
                </a:lnTo>
                <a:cubicBezTo>
                  <a:pt x="44082" y="2368"/>
                  <a:pt x="44082" y="2368"/>
                  <a:pt x="44083" y="2368"/>
                </a:cubicBez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3"/>
          <p:cNvSpPr/>
          <p:nvPr/>
        </p:nvSpPr>
        <p:spPr>
          <a:xfrm>
            <a:off x="-3006720" y="1341360"/>
            <a:ext cx="4038480" cy="403884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50994" y="6246"/>
                </a:moveTo>
                <a:cubicBezTo>
                  <a:pt x="59172" y="12279"/>
                  <a:pt x="64000" y="21837"/>
                  <a:pt x="64000" y="32000"/>
                </a:cubicBezTo>
                <a:cubicBezTo>
                  <a:pt x="64000" y="42162"/>
                  <a:pt x="59172" y="51720"/>
                  <a:pt x="50994" y="57753"/>
                </a:cubicBezTo>
                <a:cubicBezTo>
                  <a:pt x="50993" y="57753"/>
                  <a:pt x="50993" y="57753"/>
                  <a:pt x="50993" y="57753"/>
                </a:cubicBezTo>
                <a:lnTo>
                  <a:pt x="50994" y="57754"/>
                </a:lnTo>
                <a:lnTo>
                  <a:pt x="50994" y="6246"/>
                </a:lnTo>
                <a:lnTo>
                  <a:pt x="50993" y="6246"/>
                </a:lnTo>
                <a:cubicBezTo>
                  <a:pt x="50993" y="6246"/>
                  <a:pt x="50993" y="6246"/>
                  <a:pt x="50994" y="6246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1928880" y="2116080"/>
            <a:ext cx="727236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bridge IELTS 7 Self-study Pack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Cambridge ES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6105600" y="3141720"/>
            <a:ext cx="3456000" cy="3456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609480"/>
            <a:ext cx="8153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66cc"/>
                </a:solidFill>
                <a:latin typeface="Arial"/>
              </a:rPr>
              <a:t>How to prepare for the IELTS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2"/>
          <p:cNvSpPr/>
          <p:nvPr/>
        </p:nvSpPr>
        <p:spPr>
          <a:xfrm>
            <a:off x="-2319480" y="2408400"/>
            <a:ext cx="3678480" cy="36576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44083" y="2368"/>
                </a:moveTo>
                <a:cubicBezTo>
                  <a:pt x="56127" y="7280"/>
                  <a:pt x="64000" y="18993"/>
                  <a:pt x="64000" y="32000"/>
                </a:cubicBezTo>
                <a:cubicBezTo>
                  <a:pt x="64000" y="45006"/>
                  <a:pt x="56127" y="56719"/>
                  <a:pt x="44083" y="61631"/>
                </a:cubicBezTo>
                <a:cubicBezTo>
                  <a:pt x="44082" y="61631"/>
                  <a:pt x="44082" y="61631"/>
                  <a:pt x="44082" y="61631"/>
                </a:cubicBezTo>
                <a:lnTo>
                  <a:pt x="44083" y="61632"/>
                </a:lnTo>
                <a:lnTo>
                  <a:pt x="44083" y="2368"/>
                </a:lnTo>
                <a:lnTo>
                  <a:pt x="44082" y="2368"/>
                </a:lnTo>
                <a:cubicBezTo>
                  <a:pt x="44082" y="2368"/>
                  <a:pt x="44082" y="2368"/>
                  <a:pt x="44083" y="2368"/>
                </a:cubicBez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"/>
          <p:cNvSpPr/>
          <p:nvPr/>
        </p:nvSpPr>
        <p:spPr>
          <a:xfrm>
            <a:off x="-3006720" y="1341360"/>
            <a:ext cx="4038480" cy="403884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50994" y="6246"/>
                </a:moveTo>
                <a:cubicBezTo>
                  <a:pt x="59172" y="12279"/>
                  <a:pt x="64000" y="21837"/>
                  <a:pt x="64000" y="32000"/>
                </a:cubicBezTo>
                <a:cubicBezTo>
                  <a:pt x="64000" y="42162"/>
                  <a:pt x="59172" y="51720"/>
                  <a:pt x="50994" y="57753"/>
                </a:cubicBezTo>
                <a:cubicBezTo>
                  <a:pt x="50993" y="57753"/>
                  <a:pt x="50993" y="57753"/>
                  <a:pt x="50993" y="57753"/>
                </a:cubicBezTo>
                <a:lnTo>
                  <a:pt x="50994" y="57754"/>
                </a:lnTo>
                <a:lnTo>
                  <a:pt x="50994" y="6246"/>
                </a:lnTo>
                <a:lnTo>
                  <a:pt x="50993" y="6246"/>
                </a:lnTo>
                <a:cubicBezTo>
                  <a:pt x="50993" y="6246"/>
                  <a:pt x="50993" y="6246"/>
                  <a:pt x="50994" y="6246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1595520" y="2349360"/>
            <a:ext cx="782136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s vary from institution to instit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should check with individual institutions for their specific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orth American / British universities, you will probably need a ToEFL iBT score of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75 to 92 (/1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orth American / British universities, you will probably need an IELTS band score of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6 to 6.5 (/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B1+ to B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the CEF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4920" y="609480"/>
            <a:ext cx="8153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66cc"/>
                </a:solidFill>
                <a:latin typeface="Arial"/>
              </a:rPr>
              <a:t>Requir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ennifer Valcke</cp:lastModifiedBy>
  <cp:lastPrinted>2005-08-30T12:32:19Z</cp:lastPrinted>
  <dcterms:modified xsi:type="dcterms:W3CDTF">2013-09-30T10:32:07Z</dcterms:modified>
  <cp:revision>493</cp:revision>
  <dc:subject/>
  <dc:title>Aucun titre de diapositive</dc:title>
</cp:coreProperties>
</file>