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457200" y="1371600"/>
            <a:ext cx="937260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dadaf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145"/>
          <p:cNvSpPr/>
          <p:nvPr/>
        </p:nvSpPr>
        <p:spPr>
          <a:xfrm rot="16200000">
            <a:off x="-817200" y="5709960"/>
            <a:ext cx="195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9533-4F85-45AC-8177-036F04F561FB}" type="datetime3">
              <a:rPr b="1" lang="fr-BE" sz="800" spc="-1" strike="noStrike">
                <a:solidFill>
                  <a:srgbClr val="000000"/>
                </a:solidFill>
                <a:latin typeface="Arial"/>
              </a:rPr>
              <a:t>30 juillet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9" descr="nouveau logo carre bleu ULB"/>
          <p:cNvPicPr/>
          <p:nvPr/>
        </p:nvPicPr>
        <p:blipFill>
          <a:blip r:embed="rId2"/>
          <a:stretch/>
        </p:blipFill>
        <p:spPr>
          <a:xfrm>
            <a:off x="94489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65" descr="logo polytech seul"/>
          <p:cNvPicPr/>
          <p:nvPr/>
        </p:nvPicPr>
        <p:blipFill>
          <a:blip r:embed="rId3"/>
          <a:stretch/>
        </p:blipFill>
        <p:spPr>
          <a:xfrm>
            <a:off x="404640" y="60804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7" descr="couleurs fac mai 2013"/>
          <p:cNvPicPr/>
          <p:nvPr/>
        </p:nvPicPr>
        <p:blipFill>
          <a:blip r:embed="rId4"/>
          <a:srcRect l="16040" t="15462" r="18934" b="0"/>
          <a:stretch/>
        </p:blipFill>
        <p:spPr>
          <a:xfrm>
            <a:off x="7574040" y="11160"/>
            <a:ext cx="187776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Connaissance des lang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85800" y="1828800"/>
            <a:ext cx="90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74760" algn="r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et, en particulier, connaissance de l'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685800" y="331164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vérifier </a:t>
            </a:r>
            <a:r>
              <a:rPr b="1" lang="fr-FR" sz="2400" spc="-1" strike="noStrike" u="sng">
                <a:solidFill>
                  <a:srgbClr val="000066"/>
                </a:solidFill>
                <a:uFillTx/>
                <a:latin typeface="Arial"/>
              </a:rPr>
              <a:t>très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tôt quelles sont les preuves et / ou attestations requ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dans le doute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passer un test internationalement recon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dans le doute ...</a:t>
            </a:r>
            <a:br>
              <a:rPr sz="2400"/>
            </a:b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chercher les informations auprès de l'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contenu 2"/>
          <p:cNvSpPr/>
          <p:nvPr/>
        </p:nvSpPr>
        <p:spPr>
          <a:xfrm>
            <a:off x="1716120" y="2205000"/>
            <a:ext cx="73137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Arial"/>
              </a:rPr>
              <a:t>Jennifer.Valcke@ulb.ac.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Any further Question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610320" y="574056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ood luck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1712880" y="4076640"/>
            <a:ext cx="7821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look at the pag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"Wiki des Langues de l'ULB"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http://languesulb.wikispaces.com/Toutes+les+lan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International Certifications</a:t>
            </a:r>
            <a:br>
              <a:rPr sz="3600"/>
            </a:br>
            <a:br>
              <a:rPr sz="3600"/>
            </a:b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of English Language Compe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035080" y="3284640"/>
            <a:ext cx="723924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est of English as a Foreig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oEFL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International English Language Tes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IE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contenu 2"/>
          <p:cNvSpPr/>
          <p:nvPr/>
        </p:nvSpPr>
        <p:spPr>
          <a:xfrm>
            <a:off x="196056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FL – America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s a candid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ability to use and understand English at the universit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http://www.ets.org/toefl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LTS – British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designed to assess the language ability of candidates who want to study or work where English is the language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http://www.ielts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ToEFL  </a:t>
            </a: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or</a:t>
            </a: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  IELT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contenu 2"/>
          <p:cNvSpPr/>
          <p:nvPr/>
        </p:nvSpPr>
        <p:spPr>
          <a:xfrm>
            <a:off x="1960560" y="2205000"/>
            <a:ext cx="73137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FL / IELTS scores must be obtain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compile your admissions dossi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fore December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institutions require such tests, some may ask for a letter, please send me an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ennifer.Valcke@ulb.ac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When to take the tes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96880" y="1940040"/>
            <a:ext cx="81360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ToEFL iBT (Internet-based Test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sts all four language skill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en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ing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is tested by computer-generated questions and answers are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deo with detailed tips on : </a:t>
            </a:r>
            <a:r>
              <a:rPr b="1" lang="en-US" sz="1600" spc="-1" strike="noStrike" u="sng">
                <a:solidFill>
                  <a:srgbClr val="008000"/>
                </a:solidFill>
                <a:uFillTx/>
                <a:latin typeface="Arial"/>
                <a:ea typeface="ＭＳ Ｐゴシック"/>
              </a:rPr>
              <a:t>http://www.ets.org/s/toefl/flash/17494/TOEFL_Resources_Web_Video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Format of the ToEFL iBT</a:t>
            </a:r>
            <a:br>
              <a:rPr sz="3600"/>
            </a:br>
            <a:br>
              <a:rPr sz="2000"/>
            </a:br>
            <a:r>
              <a:rPr b="1" lang="fr-FR" sz="2000" spc="-1" strike="noStrike">
                <a:solidFill>
                  <a:srgbClr val="3366cc"/>
                </a:solidFill>
                <a:latin typeface="Arial"/>
              </a:rPr>
              <a:t>(Internet-based t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424160" y="2403360"/>
            <a:ext cx="797544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ridge Preparation for the ToEFL Te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olene Gear and Robert G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 6" descr="Toefl.jpg"/>
          <p:cNvPicPr/>
          <p:nvPr/>
        </p:nvPicPr>
        <p:blipFill>
          <a:blip r:embed="rId1"/>
          <a:stretch/>
        </p:blipFill>
        <p:spPr>
          <a:xfrm>
            <a:off x="6664320" y="3122640"/>
            <a:ext cx="2536920" cy="3259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How to prepare for the ToEF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784520" y="1773360"/>
            <a:ext cx="777708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IELTS tests all four language skill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 ques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en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 ques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ing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par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parts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-14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is d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-to-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tive speak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chure 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ELTS information for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900920" y="4076640"/>
            <a:ext cx="1947960" cy="2737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Format of the IE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928880" y="2116080"/>
            <a:ext cx="72723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ridge IELTS 7 Self-study Pac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ambridge E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105600" y="314172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How to prepare for the IELT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595520" y="2349360"/>
            <a:ext cx="78213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vary from institution to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check with individual institutions for their specifi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rth American / British universities, you will probably need a ToEFL iBT score of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75 to 92 (/1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rth American / British universities, you will probably need an IELTS band score of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6 to 6.5 (/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B1+ to B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CE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nnifer Valcke</cp:lastModifiedBy>
  <cp:lastPrinted>2005-08-30T12:32:19Z</cp:lastPrinted>
  <dcterms:modified xsi:type="dcterms:W3CDTF">2013-09-30T10:32:07Z</dcterms:modified>
  <cp:revision>493</cp:revision>
  <dc:subject/>
  <dc:title>Aucun titre de diapositive</dc:title>
</cp:coreProperties>
</file>