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139A-01D6-4755-9056-2B9402C42D92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D356-763F-47F3-A67C-F9D20638F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6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DDA-1875-4014-95BB-DF961F223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3F5-026A-42FA-A41B-B7C67ABB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47B-35A9-443F-954B-608AA78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473-2D4B-4F35-AF2D-02A46D88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381-4584-4CAB-87A2-99E893D1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C87F-08D1-495D-8BAE-3E9B86E1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4356-6C04-4CD5-BB9E-EF66674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0FE-3BB1-4DB3-9190-E0AE8EE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B401-E158-4CCA-9D1F-E983D89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75FD-13D3-4A7C-8195-74A32288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C72-5F76-4F7B-824B-9D5A79D6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7A16-89D8-4EE6-B494-7912E85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14F-90B8-428A-8D81-85186F9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A50-3FDF-4797-B6B4-899C472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FF5F-0F46-4A5C-9749-1C40BBF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C935-8A33-42FC-BCAE-47ACBA7B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1CD0-F017-47D9-9277-0A6D5010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1DF6-B1BE-46DF-AF83-5A521686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EDB-1526-46E4-AC78-DCD963DC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EBD-7337-4273-BA8E-3C8686C0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C54-CCC8-4108-891D-33ABB6C5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6E4-89F3-41EB-8383-08FD4621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70B-DCEA-4842-8632-DE9273ED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E5A-1619-494A-BAA5-A5927B7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C8B-9099-45ED-B906-DBA8334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CD68-458F-4B29-9E03-FAAD717D3A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D44-BB6C-4856-A1BF-9705EAC6AC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846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b2b2b2"/>
                </a:solidFill>
                <a:latin typeface="Arial"/>
              </a:rPr>
              <a:t>Journée d’études ULB – 30/01/2014</a:t>
            </a:r>
            <a:r>
              <a:rPr b="1" lang="fr-BE" sz="28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fr-BE" sz="1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Développement d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compétences écrit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dans une pédagogie différencié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69760" y="4435560"/>
            <a:ext cx="4181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Emilie 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Université Libre de Bruxel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58920" y="1916280"/>
          <a:ext cx="7489800" cy="3554280"/>
        </p:xfrm>
        <a:graphic>
          <a:graphicData uri="http://schemas.openxmlformats.org/drawingml/2006/table">
            <a:tbl>
              <a:tblPr/>
              <a:tblGrid>
                <a:gridCol w="2736720"/>
                <a:gridCol w="2448000"/>
                <a:gridCol w="23050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ction de chaque paragraphe (conte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 &amp;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stement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 /paragrap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Hiérarchisation Tran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« squelette » à complé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paragrap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à l’intérieur et « entre » les 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5892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773360"/>
            <a:ext cx="77058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. Concentrate on link words &amp; the organisation of ideas 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at join ideas across sentences and paragraphs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text organiz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Sequencing: First (of all), Secondly, Next, Then, Finally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Adding information : Furthermore..., Moreover..., In addition to..., As well as this..., Besides (this)..., not only…but also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xplaining: In fact, actually, as a matter of fact, indee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mphasising : Above all, especially, all the more so as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larifying : For example, for instance, in other words, i.e., e.g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hat join clauses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within a sentence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Purpose: in order to, so as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trast: Although, even though, however, nevertheless, despite &amp; in spite of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ause: because, as, since, on account of, due to, owing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sequence: Thus, therefore, as a result, consequently, as a consequence, so, hence, for this reason, that’s why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dition: if, Unless, provided that, so long as, as long as, until, as soon as, once, supposing that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ccc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Indee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8200" y="29973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For examp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176760" y="371628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 addition,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-2160" y="52293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As a conclusio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324360" y="4848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owev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EEED-079B-43AA-86D0-59F33F95235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éponse à la question posée?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Éliminer les informations superflues, les répéti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Organisation &amp; transi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m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espect des consignes (nombre de mots.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résentation (paragraphes…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onct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89000"/>
            <a:ext cx="63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cture…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c grille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706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m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éhension et restitution 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s  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ité des informations nécessaire à la compréh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ilité, ex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généralit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listes, trans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veau linguistique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)   Correction de la langue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cer la phrase par le suj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alambiqué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sans ver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dre des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ord sujet-verb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es verbales bien construit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cordance des tem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noms relati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arai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3280" y="2276280"/>
            <a:ext cx="35816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–s aux adjectif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contrac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« etc.. 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tilisation appropriée des articles (the, a, Ø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nc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verbes, préposi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)   Richesse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ésence d’une variété de formes grammaticales et syntaxiques (modaux, gérondif, phrases complexes, comparatifs et superlatifs,…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gn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ne entre 2 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mbre de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6C97-251F-4638-9184-FA843546B8D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773360"/>
          <a:ext cx="7201080" cy="4620960"/>
        </p:xfrm>
        <a:graphic>
          <a:graphicData uri="http://schemas.openxmlformats.org/drawingml/2006/table">
            <a:tbl>
              <a:tblPr/>
              <a:tblGrid>
                <a:gridCol w="1729080"/>
                <a:gridCol w="2158920"/>
                <a:gridCol w="180036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verbes/suj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ordre des mo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pré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x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été du lexique et des co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s de “copier-coller” &amp; répé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sation des paragrap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ts de li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thographe et ponc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 des erreurs fréq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 règles de 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ègle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Liste détaillée avec « checkpoints 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Rappels + succin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Consignes / su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0" y="5551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258920" y="54936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892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A1-A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s isolés tirés de copies à corriger avec éléments soulign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B1-B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Texte court ponctué d’erreurs tirées des copies à corri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C1-C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 de production sans indic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Échange de cop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Reméd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s une production auton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34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outils pour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être capable de « réagir » face à un sujet, identifier attentes et difficult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éliorer sa production (contenu, lexique et grammair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rri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ntex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2060280"/>
            <a:ext cx="76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250 étudiants</a:t>
            </a:r>
            <a:r>
              <a:rPr b="0" lang="fr-BE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Groupes de niveau (A1/A2, B1/B2, C1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Moyenne inférieure à 8/2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= éliminato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Contrôle contin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Examen terminal: épreuve écrite commune aux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, 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xam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amen de 3h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stions de difficulté graduée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ammaire &amp; lexique : programme comm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éhension écrite : à partir d’un document authen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on écrite : 3 sujets en lien avec le document de 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3630600"/>
          <a:ext cx="60487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30600"/>
                    <a:ext cx="60487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ction écri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hoose ONE of the following subjects and write a 200 words essay. Use link word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onnect your argument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1) “The ability to speak more than one language is essential in the modern world.” (l. 32) How far do you agree or disagree with this statement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C1-C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) “High tech gadgets, such as phones or computers, are changing the way people work, live, love. They have also considerably modified our relation to places—and each other.” (l. 1-13) What are the advantages and drawbacks, as well as the implications of the explosion of new technologies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B1-B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3) Read the text and comment on the advantages and disadvantages of AM and FM radios. DO NOT COPY FROM THE TEXT.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A1-A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6265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ritères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Contenu &amp;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Reprise des arguments donnés dans le texte ou ajouts d’éléments nouveaux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Organisation/hiérarchisation de l’argumentation 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Expression d’opinions et d’idées personnell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xique &amp; orthograp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esse (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mprunté au texte, vu en cours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 &amp; ponctuation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rammaire &amp; synta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hrases simples &amp; complex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Formes verbales (temps, modalité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Accords (verbe &amp; sujet, pronoms…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n classe : travail en amo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5640" y="1699920"/>
            <a:ext cx="7599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dentification du type de suje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Question larg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: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you, should technological improvements be used in sport? What are the advantages? What are the risk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Reprise d’un point soulevé dans un text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.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the article, “there is the potential for technology to do much more” (l. 44). Can you give examples of other potential applications in spor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cccc"/>
                </a:solidFill>
                <a:latin typeface="Verdana"/>
              </a:rPr>
              <a:t>Reformulation ou résum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Spécificités liées au sujet (registre, argument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Anticipation et mobilisation des ressources (lexique, structures utile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2997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5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689120"/>
          <a:ext cx="7345080" cy="4654440"/>
        </p:xfrm>
        <a:graphic>
          <a:graphicData uri="http://schemas.openxmlformats.org/drawingml/2006/table">
            <a:tbl>
              <a:tblPr/>
              <a:tblGrid>
                <a:gridCol w="2690640"/>
                <a:gridCol w="2692080"/>
                <a:gridCol w="19623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roduction du su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 ou C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Questi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rpose stay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nght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people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 of rooms 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ra facilitie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Brainstor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rguments (pros &amp; c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 d’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rontation de points de v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velopper les 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ner une liste de voc d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se, avec repérage dans un document (écrit ou oral) &amp;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(“Survival Kit”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er en classe une liste de voc &amp; donner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res &amp; nu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itre 1"/>
          <p:cNvSpPr/>
          <p:nvPr/>
        </p:nvSpPr>
        <p:spPr>
          <a:xfrm>
            <a:off x="1403280" y="40464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Boîte à outil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« Survival kit 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51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ressing your point of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 far as I am concerned, for my part, personally 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sonnel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my mind, in my view, in my opin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à mon av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I think that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 have a few reservations/doubts abou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sth/Ving: j’ai quel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éserves/doutes à propos 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bs of opi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discuss 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discuter, exami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he issue was discussed at Monday’s meet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describe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: décrire, qualifier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Their attitude can hardly be described as impartial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advocate 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préconiser, prô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ome environmentalists advocate the dismantling of nuclear plant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agree / to disagree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with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 : être d’accord / ne pas être d’accord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I disagree with the journalist’s point of view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56:03Z</dcterms:created>
  <dc:creator>ISLV</dc:creator>
  <dc:description/>
  <dc:language>en-US</dc:language>
  <cp:lastModifiedBy>Gilles</cp:lastModifiedBy>
  <dcterms:modified xsi:type="dcterms:W3CDTF">2014-01-29T18:04:13Z</dcterms:modified>
  <cp:revision>114</cp:revision>
  <dc:subject/>
  <dc:title>Enseigner la grammaire en FLE : pourquoi et comment ?</dc:title>
</cp:coreProperties>
</file>