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1401-FFC5-4FCB-B62C-5AE5E64F70A2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10E9-9A59-494F-B152-A6E1CDD78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3664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0DB5-0EDD-433C-9FE1-79BB62E06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317-4FAD-466B-A842-FE4B649D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B3E-47FD-49E7-8880-5ABA0162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956-EFE3-49D9-9F69-6D3876F4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B6A-37AC-4D6E-BD20-53ABA726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6C02-5FFF-455D-B6EB-21D0700E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836A-89EA-437D-BDD0-E3F55725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A67E-1985-4DAA-B11B-8F97A079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E764-00A4-4875-8A90-2BAC6007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55DD-613A-45F5-A230-C78AD1B0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4495-0F94-4AFA-8F4F-CFBDDB06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893F-86A3-4142-9D26-2E984CC2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522-DC6F-41D8-BFFB-B460ACA7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B62A-1A9C-4525-805E-25459779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BAF4-B2AC-41E9-8D5F-619D8237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080B-C1DA-4F18-8D77-1838C248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CAF9-F908-4D1B-9194-A659A69A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34A2-C12C-4C5D-B4C3-138510D0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6CB-CDB1-40E8-96C9-FD7C8F16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ACF-B98E-4EA7-98F8-64B7EB66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CBB-4FC6-4D18-8E8B-3F3BABA0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2E2-F672-4B4F-A0BC-2146CD62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668-B96C-49D4-9510-DE9C574C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4B5-2946-4E29-962B-5888860A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F95-568D-4FC6-9603-D6143669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F2B5-B174-4AC2-A241-D3CA91E4E9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34EF-B644-47BC-BF46-B2977FCCEC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8461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BE" sz="20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fr-BE" sz="2400" spc="-1" strike="noStrike">
                <a:solidFill>
                  <a:srgbClr val="b2b2b2"/>
                </a:solidFill>
                <a:latin typeface="Arial"/>
              </a:rPr>
              <a:t>Journée d’études ULB – 30/01/2014</a:t>
            </a:r>
            <a:r>
              <a:rPr b="1" lang="fr-BE" sz="28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fr-BE" sz="1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Développement des </a:t>
            </a:r>
            <a:br>
              <a:rPr sz="3600"/>
            </a:b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 compétences écrites </a:t>
            </a:r>
            <a:br>
              <a:rPr sz="3600"/>
            </a:b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 dans une pédagogie différenciée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69760" y="4435560"/>
            <a:ext cx="4181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6666"/>
                </a:solidFill>
                <a:latin typeface="Verdana"/>
              </a:rPr>
              <a:t>Emilie Pi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336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6666"/>
                </a:solidFill>
                <a:latin typeface="Verdana"/>
              </a:rPr>
              <a:t>Université Libre de Bruxel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258920" y="1916280"/>
          <a:ext cx="7489800" cy="3554280"/>
        </p:xfrm>
        <a:graphic>
          <a:graphicData uri="http://schemas.openxmlformats.org/drawingml/2006/table">
            <a:tbl>
              <a:tblPr/>
              <a:tblGrid>
                <a:gridCol w="2736720"/>
                <a:gridCol w="2448000"/>
                <a:gridCol w="230508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ction de chaque paragraphe (conten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s &amp; stru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mbre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grap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justement 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 /paragrap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Mincho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lvl="1" marL="179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Mincho"/>
                        </a:rPr>
                        <a:t>Hiérarchisation Trans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« squelette » à complé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paragraph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à l’intérieur et « entre » les paragrap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258920" y="692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Structur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5892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Exemple de « squelette 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1628640"/>
            <a:ext cx="741672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dicate the function of each section (&amp; tenses used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1 : Int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finition + introduction de la questio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ate of the art”  (articles publiés sur la question)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 present perfec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emple d’expériences passées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simple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 2 : Participants &amp; method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Desig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</a:rPr>
              <a:t>What was done =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tatistical analysis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3: Result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Number of patients &amp; characteristic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Prim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econd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4: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Discussio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General conclusion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(What is sure = 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ide effects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What is possible = modals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Sub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What remains to be done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= future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58920" y="1773360"/>
            <a:ext cx="770580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b. Concentrate on link words &amp; the organisation of ideas 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Link word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at join ideas across sentences and paragraphs: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text organizer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Sequencing: First (of all), Secondly, Next, Then, Finally.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Adding information : Furthermore..., Moreover..., In addition to..., As well as this..., Besides (this)..., not only…but also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Explaining: In fact, actually, as a matter of fact, indeed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Emphasising : Above all, especially, all the more so as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larifying : For example, for instance, in other words, i.e., e.g...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Link words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that join clauses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within a sentence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Purpose: in order to, so as to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trast: Although, even though, however, nevertheless, despite &amp; in spite of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ause: because, as, since, on account of, due to, owing to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sequence: Thus, therefore, as a result, consequently, as a consequence, so, hence, for this reason, that’s why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dition: if, Unless, provided that, so long as, as long as, until, as soon as, once, supposing that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ccc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5892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Exemple de « squelette 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1628640"/>
            <a:ext cx="741672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dicate the function of each section (&amp; tenses used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1 : Int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finition + introduction de la questio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ate of the art”  (articles publiés sur la question)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 present perfec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emple d’expériences passées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simple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 2 : Participants &amp; method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</a:rPr>
              <a:t>What was done =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tatistical analysis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3: Result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Number of patients &amp; characteristic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Prim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econd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4: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Discussio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General conclusion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(What is sure = 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ide effects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What is possible = modals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Sub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What remains to be done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= future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708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66"/>
                </a:solidFill>
                <a:latin typeface="Arial"/>
              </a:rPr>
              <a:t>Indeed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"/>
          <p:cNvSpPr/>
          <p:nvPr/>
        </p:nvSpPr>
        <p:spPr>
          <a:xfrm>
            <a:off x="178200" y="299736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66"/>
                </a:solidFill>
                <a:latin typeface="Arial"/>
              </a:rPr>
              <a:t>For exampl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"/>
          <p:cNvSpPr/>
          <p:nvPr/>
        </p:nvSpPr>
        <p:spPr>
          <a:xfrm>
            <a:off x="176760" y="3716280"/>
            <a:ext cx="11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In addition,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"/>
          <p:cNvSpPr/>
          <p:nvPr/>
        </p:nvSpPr>
        <p:spPr>
          <a:xfrm>
            <a:off x="-2160" y="5229360"/>
            <a:ext cx="15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As a conclusion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"/>
          <p:cNvSpPr/>
          <p:nvPr/>
        </p:nvSpPr>
        <p:spPr>
          <a:xfrm>
            <a:off x="324360" y="4848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However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numéro de diapositive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BCB7-5143-40CC-99A2-8C746B523473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nten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Réponse à la question posée?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Éliminer les informations superflues, les répéti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Organisation &amp; transition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orm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Respect des consignes (nombre de mots..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Présentation (paragraphes…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Ponctu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189000"/>
            <a:ext cx="630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lecture…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vec grille d’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370692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m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réhension et restitution 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formations  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talité des informations nécessaire à la compréhen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ilité, ex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généralité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listes, transi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iveau linguistique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)   Correction de la langue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ncer la phrase par le suj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phrases alambiqué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phrases sans ver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dre des m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ord sujet-verb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es verbales bien construit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cordance des tem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noms relati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arais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3280" y="2276280"/>
            <a:ext cx="358164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–s aux adjectif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contractio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« etc.. 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tilisation appropriée des articles (the, a, Ø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nc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thograp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verbes, prépositio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)   Richesse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enticité (registre, colocation, mots de liaison approprié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ésence d’une variété de formes grammaticales et syntaxiques (modaux, gérondif, phrases complexes, comparatifs et superlatifs,…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ign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graph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gne entre 2 paragraph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mbre de m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2503-01EA-4EAC-B100-A90880EF4C8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03280" y="1773360"/>
          <a:ext cx="7201080" cy="4620960"/>
        </p:xfrm>
        <a:graphic>
          <a:graphicData uri="http://schemas.openxmlformats.org/drawingml/2006/table">
            <a:tbl>
              <a:tblPr/>
              <a:tblGrid>
                <a:gridCol w="1729080"/>
                <a:gridCol w="2158920"/>
                <a:gridCol w="1800360"/>
                <a:gridCol w="1512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verbes/suje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ordre des mo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prépos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arti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x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f. l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f. l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riété du lexique et des constru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s de “copier-coller” &amp; répét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ganisation des paragraph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ts de liai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thographe et ponct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e des erreurs fréq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ppel des règles de ponctu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ppel 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ègles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ctu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Liste détaillée avec « checkpoints 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Rappels + succin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Consignes / suj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0" y="5551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1258920" y="54936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orrec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58920" y="184428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A1-A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mples isolés tirés de copies à corriger avec éléments soulign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rcices de grammaire cibl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B1-B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Texte court ponctué d’erreurs tirées des copies à corriger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rcices de grammaire cibl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C1-C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mple de production sans indica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Échange de copi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Remédi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s une production autono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6000" y="1773000"/>
            <a:ext cx="7343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s outils pour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être capable de « réagir » face à un sujet, identifier attentes et difficulté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méliorer sa production (contenu, lexique et grammaire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 corrig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ontex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58920" y="2060280"/>
            <a:ext cx="7634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250 étudiants</a:t>
            </a:r>
            <a:r>
              <a:rPr b="0" lang="fr-BE" sz="29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Groupes de niveau (A1/A2, B1/B2, C1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Moyenne inférieure à 8/2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= éliminato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000000"/>
                </a:solidFill>
                <a:latin typeface="Verdana"/>
              </a:rPr>
              <a:t>Contrôle continu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E &amp; 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P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000000"/>
                </a:solidFill>
                <a:latin typeface="Verdana"/>
              </a:rPr>
              <a:t>Examen terminal: épreuve écrite commune aux différents grou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O, CE &amp; 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436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Exam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000"/>
            <a:ext cx="7313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xamen de 3h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Questions de difficulté graduée 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rammaire &amp; lexique : programme comm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réhension écrite : à partir d’un document authentiq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on écrite : 3 sujets en lien avec le document de 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47640" y="3630600"/>
          <a:ext cx="604872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630600"/>
                    <a:ext cx="604872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duction écri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7636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hoose ONE of the following subjects and write a 200 words essay. Use link words 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onnect your arguments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1) “The ability to speak more than one language is essential in the modern world.” (l. 32) How far do you agree or disagree with this statement?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C1-C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2) “High tech gadgets, such as phones or computers, are changing the way people work, live, love. They have also considerably modified our relation to places—and each other.” (l. 1-13) What are the advantages and drawbacks, as well as the implications of the explosion of new technologies?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B1-B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3) Read the text and comment on the advantages and disadvantages of AM and FM radios. DO NOT COPY FROM THE TEXT.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A1-A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5280" y="4508640"/>
            <a:ext cx="626580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549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ritères d’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7280" y="1699920"/>
            <a:ext cx="78343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Calibri"/>
              </a:rPr>
              <a:t>Contenu &amp; stru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Reprise des arguments donnés dans le texte ou ajouts d’éléments nouveaux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-3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Organisation/hiérarchisation de l’argumentation 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Expression d’opinions et d’idées personnelles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-3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exique &amp; orthograp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ichesse (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emprunté au texte, vu en cours)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enticité (registre, colocation, mots de liaison appropriés)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thographe &amp; ponctuation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rammaire &amp; syntax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Phrases simples &amp; complexes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Formes verbales (temps, modalité) </a:t>
            </a:r>
            <a:r>
              <a:rPr b="0" i="1" lang="fr-BE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Accords (verbe &amp; sujet, pronoms…) </a:t>
            </a:r>
            <a:r>
              <a:rPr b="0" i="1" lang="fr-BE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En classe : travail en amo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15640" y="1699920"/>
            <a:ext cx="7599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Identification du type de sujet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cc"/>
                </a:solidFill>
                <a:latin typeface="Verdana"/>
              </a:rPr>
              <a:t>Question large.</a:t>
            </a:r>
            <a:r>
              <a:rPr b="0" lang="fr-FR" sz="18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i="1" lang="fr-FR" sz="1800" spc="-1" strike="noStrike">
                <a:solidFill>
                  <a:srgbClr val="99cccc"/>
                </a:solidFill>
                <a:latin typeface="Verdana"/>
              </a:rPr>
              <a:t>Ex: </a:t>
            </a:r>
            <a:r>
              <a:rPr b="0" i="1" lang="en-GB" sz="1800" spc="-1" strike="noStrike">
                <a:solidFill>
                  <a:srgbClr val="99cccc"/>
                </a:solidFill>
                <a:latin typeface="Verdana"/>
              </a:rPr>
              <a:t>According to you, should technological improvements be used in sport? What are the advantages? What are the risk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cc"/>
                </a:solidFill>
                <a:latin typeface="Verdana"/>
              </a:rPr>
              <a:t>Reprise d’un point soulevé dans un texte.</a:t>
            </a:r>
            <a:r>
              <a:rPr b="0" lang="fr-FR" sz="18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i="1" lang="fr-FR" sz="1800" spc="-1" strike="noStrike">
                <a:solidFill>
                  <a:srgbClr val="99cccc"/>
                </a:solidFill>
                <a:latin typeface="Verdana"/>
              </a:rPr>
              <a:t>Ex. </a:t>
            </a:r>
            <a:r>
              <a:rPr b="0" i="1" lang="en-GB" sz="1800" spc="-1" strike="noStrike">
                <a:solidFill>
                  <a:srgbClr val="99cccc"/>
                </a:solidFill>
                <a:latin typeface="Verdana"/>
              </a:rPr>
              <a:t>According to the article, “there is the potential for technology to do much more” (l. 44). Can you give examples of other potential applications in sport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cccc"/>
                </a:solidFill>
                <a:latin typeface="Verdana"/>
              </a:rPr>
              <a:t>Reformulation ou résum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Verdana"/>
              </a:rPr>
              <a:t>Spécificités liées au sujet (registre, argument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Verdana"/>
              </a:rPr>
              <a:t>Anticipation et mobilisation des ressources (lexique, structures utiles…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68360" y="2997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33591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03280" y="1689120"/>
          <a:ext cx="7345080" cy="4654440"/>
        </p:xfrm>
        <a:graphic>
          <a:graphicData uri="http://schemas.openxmlformats.org/drawingml/2006/table">
            <a:tbl>
              <a:tblPr/>
              <a:tblGrid>
                <a:gridCol w="2690640"/>
                <a:gridCol w="2692080"/>
                <a:gridCol w="196236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roduction du suj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CO ou C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Question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urpose stay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nght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people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ype of rooms ?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tra facilities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Brainstorm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Arguments (pros &amp; co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e d’exe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frontation de points de v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évelopper les exe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nner une liste de voc de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ase, avec repérage dans un document (écrit ou oral) &amp; une liste de structures uti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(“Survival Kit”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tituer en classe une liste de voc &amp; donner une liste de structures uti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res &amp; nu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itre 1"/>
          <p:cNvSpPr/>
          <p:nvPr/>
        </p:nvSpPr>
        <p:spPr>
          <a:xfrm>
            <a:off x="1403280" y="40464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Boîte à outil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« Survival kit 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1640" y="1827360"/>
            <a:ext cx="73515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pressing your point of 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s far as I am concerned, for my part, personally 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rsonnell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my mind, in my view, in my opin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à mon av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I think that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 have a few reservations/doubts about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+sth/Ving: j’ai quelqu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éserves/doutes à propos 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Verbs of opin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discuss s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discuter, examiner 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The issue was discussed at Monday’s meet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to describe sth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: décrire, qualifier (</a:t>
            </a:r>
            <a:r>
              <a:rPr b="0" i="1" lang="en-GB" sz="1600" spc="-1" strike="noStrike">
                <a:solidFill>
                  <a:srgbClr val="99cccc"/>
                </a:solidFill>
                <a:latin typeface="Verdana"/>
              </a:rPr>
              <a:t>Their attitude can hardly be described as impartial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advocate s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préconiser, prôner 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Some environmentalists advocate the dismantling of nuclear plant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to agree / to disagree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with sth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 : être d’accord / ne pas être d’accord (</a:t>
            </a:r>
            <a:r>
              <a:rPr b="0" i="1" lang="en-GB" sz="1600" spc="-1" strike="noStrike">
                <a:solidFill>
                  <a:srgbClr val="99cccc"/>
                </a:solidFill>
                <a:latin typeface="Verdana"/>
              </a:rPr>
              <a:t>I disagree with the journalist’s point of view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3:56:03Z</dcterms:created>
  <dc:creator>ISLV</dc:creator>
  <dc:description/>
  <dc:language>en-US</dc:language>
  <cp:lastModifiedBy>Gilles</cp:lastModifiedBy>
  <dcterms:modified xsi:type="dcterms:W3CDTF">2014-01-29T18:04:13Z</dcterms:modified>
  <cp:revision>114</cp:revision>
  <dc:subject/>
  <dc:title>Enseigner la grammaire en FLE : pourquoi et comment ?</dc:title>
</cp:coreProperties>
</file>