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B374-5447-499E-A32A-41EEC481F6DE}" type="slidenum">
              <a:rPr b="0" lang="fr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5140-DA16-4397-B936-B0CD33981B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3664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BBAC-62C5-40FF-8D70-54226D283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7015-E542-49E3-90E1-127001C7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DE5E-341A-4893-9130-48A6A92F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933B-C6A6-4BB2-A384-D2E87C94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EE57-7C6C-48D8-8E37-95D11E53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2ED2-3B92-4D75-B6F1-4F97F32D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1A96-E1B4-4411-9BD1-FF75867E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2A84-3AB2-45AE-AD91-F5344EA9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88D8-764F-4762-A49F-31D13606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5D49-2862-4DE2-BA4E-E9BCDA5E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B9EF-6272-4108-A7DF-0B80DA4D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EDBE-C8A2-4E6B-A45F-74850FE3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4A26-97E2-4131-BE8A-0B99BA73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B6E8-CB5B-4CC5-A365-EF660C48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E336-6A7A-43FC-B43F-77FF5702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FFD0-68E0-4CE1-9899-7D6ECD2A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EF24-F88A-42BF-933A-C08F8D9C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5243-4E7B-4A37-8648-5E7E3ECC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CB9A-4FA4-48A9-B1F2-119DBBCE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1703-7B82-41B4-8248-6E193BD2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325-B6B0-48D6-BDA6-071EEB06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68C4-4879-406F-8514-BE3CA70A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F5DD-5D70-4113-9B44-12DB08E4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FE82-FDBF-42C4-940B-FDE70E7E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B37E-6B95-45CB-903F-65CE77C2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4083-7AFC-4514-92D2-8596CAEA07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1775-B69A-49B9-BB58-445EA2AF3B1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8461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fr-BE" sz="20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fr-BE" sz="2400" spc="-1" strike="noStrike">
                <a:solidFill>
                  <a:srgbClr val="b2b2b2"/>
                </a:solidFill>
                <a:latin typeface="Arial"/>
              </a:rPr>
              <a:t>Journée d’études ULB – 30/01/2014</a:t>
            </a:r>
            <a:r>
              <a:rPr b="1" lang="fr-BE" sz="28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2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fr-BE" sz="1800" spc="-1" strike="noStrike">
                <a:solidFill>
                  <a:srgbClr val="b2b2b2"/>
                </a:solidFill>
                <a:latin typeface="Arial"/>
              </a:rPr>
              <a:t>   </a:t>
            </a:r>
            <a:r>
              <a:rPr b="1" lang="fr-BE" sz="3600" spc="-1" strike="noStrike">
                <a:solidFill>
                  <a:srgbClr val="b2b2b2"/>
                </a:solidFill>
                <a:latin typeface="Arial"/>
              </a:rPr>
              <a:t>Développement des </a:t>
            </a:r>
            <a:br>
              <a:rPr sz="3600"/>
            </a:br>
            <a:r>
              <a:rPr b="1" lang="fr-BE" sz="3600" spc="-1" strike="noStrike">
                <a:solidFill>
                  <a:srgbClr val="b2b2b2"/>
                </a:solidFill>
                <a:latin typeface="Arial"/>
              </a:rPr>
              <a:t> compétences écrites </a:t>
            </a:r>
            <a:br>
              <a:rPr sz="3600"/>
            </a:br>
            <a:r>
              <a:rPr b="1" lang="fr-BE" sz="3600" spc="-1" strike="noStrike">
                <a:solidFill>
                  <a:srgbClr val="b2b2b2"/>
                </a:solidFill>
                <a:latin typeface="Arial"/>
              </a:rPr>
              <a:t> dans une pédagogie différenciée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69760" y="4435560"/>
            <a:ext cx="4181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006666"/>
                </a:solidFill>
                <a:latin typeface="Verdana"/>
              </a:rPr>
              <a:t>Emilie Pi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336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006666"/>
                </a:solidFill>
                <a:latin typeface="Verdana"/>
              </a:rPr>
              <a:t>Université Libre de Bruxel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258920" y="1916280"/>
          <a:ext cx="7489800" cy="3554280"/>
        </p:xfrm>
        <a:graphic>
          <a:graphicData uri="http://schemas.openxmlformats.org/drawingml/2006/table">
            <a:tbl>
              <a:tblPr/>
              <a:tblGrid>
                <a:gridCol w="2736720"/>
                <a:gridCol w="2448000"/>
                <a:gridCol w="230508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1-A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1-B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1-C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ction de chaque paragraphe (conten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ps &amp; struc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mbre 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agrap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justement 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 /paragrap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MS Mincho"/>
                        </a:rPr>
                        <a:t>Organ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lvl="1" marL="179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MS Mincho"/>
                        </a:rPr>
                        <a:t>Hiérarchisation Trans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99cccc"/>
                          </a:solidFill>
                          <a:latin typeface="Verdana"/>
                        </a:rPr>
                        <a:t>= « squelette » à complé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cc"/>
                          </a:solidFill>
                          <a:latin typeface="Verdana"/>
                        </a:rPr>
                        <a:t>= paragraph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cc"/>
                          </a:solidFill>
                          <a:latin typeface="Verdana"/>
                        </a:rPr>
                        <a:t>= à l’intérieur et « entre » les paragrap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258920" y="69228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6666"/>
                </a:solidFill>
                <a:latin typeface="Arial"/>
              </a:rPr>
              <a:t>Structure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58920" y="54936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6666"/>
                </a:solidFill>
                <a:latin typeface="Arial"/>
              </a:rPr>
              <a:t>Exemple de « squelette 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1628640"/>
            <a:ext cx="741672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Indicate the function of each section (&amp; tenses used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ection1 : Int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finition + introduction de la question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presen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tate of the art”  (articles publiés sur la question)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 present perfec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xemple d’expériences passées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simple pas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ection 2 : Participants &amp; methods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Design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</a:rPr>
              <a:t>What was done = pas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 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tatistical analysis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ection 3: Result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Number of patients &amp; characteristic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Primary efficacy variable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3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econdary efficacy variable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ection 4: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Discussion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General conclusion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(What is sure = presen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 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ide effects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(What is possible = modals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Subsection 3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What remains to be done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(= future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58920" y="1773360"/>
            <a:ext cx="7705800" cy="41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b. Concentrate on link words &amp; the organisation of ideas 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Link words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at join ideas across sentences and paragraphs: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text organizers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Sequencing: First (of all), Secondly, Next, Then, Finally.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Adding information : Furthermore..., Moreover..., In addition to..., As well as this..., Besides (this)..., not only…but also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Explaining: In fact, actually, as a matter of fact, indeed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Emphasising : Above all, especially, all the more so as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Clarifying : For example, for instance, in other words, i.e., e.g...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Link words 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that join clauses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 within a sentence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Purpose: in order to, so as to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Contrast: Although, even though, however, nevertheless, despite &amp; in spite of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Cause: because, as, since, on account of, due to, owing to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Consequence: Thus, therefore, as a result, consequently, as a consequence, so, hence, for this reason, that’s why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99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</a:rPr>
              <a:t>Condition: if, Unless, provided that, so long as, as long as, until, as soon as, once, supposing that…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cccc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58920" y="54936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6666"/>
                </a:solidFill>
                <a:latin typeface="Arial"/>
              </a:rPr>
              <a:t>Exemple de « squelette 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"/>
          <p:cNvSpPr/>
          <p:nvPr/>
        </p:nvSpPr>
        <p:spPr>
          <a:xfrm>
            <a:off x="1403280" y="1628640"/>
            <a:ext cx="741672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Indicate the function of each section (&amp; tenses used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ection1 : Int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finition + introduction de la question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presen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tate of the art”  (articles publiés sur la question)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 present perfec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xemple d’expériences passées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=simple pas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ection 2 : Participants &amp; methods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fr-FR" sz="1200" spc="-1" strike="noStrike">
                <a:solidFill>
                  <a:srgbClr val="99cccc"/>
                </a:solidFill>
                <a:latin typeface="Verdana"/>
              </a:rPr>
              <a:t>(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</a:rPr>
              <a:t>What was done = pas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 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tatistical analysis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ection 3: Result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Number of patients &amp; characteristic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Primary efficacy variable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3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econdary efficacy variable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ection 4: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Discussion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1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General conclusion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Calibri,Bold"/>
              </a:rPr>
              <a:t>(What is sure = present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Calibri,Bold"/>
              </a:rPr>
              <a:t>Sub-section 2 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Side effects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(What is possible = modals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Subsection 3: </a:t>
            </a:r>
            <a:r>
              <a:rPr b="0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What remains to be done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1" i="1" lang="en-GB" sz="1200" spc="-1" strike="noStrike">
                <a:solidFill>
                  <a:srgbClr val="99cccc"/>
                </a:solidFill>
                <a:latin typeface="Verdana"/>
                <a:ea typeface="MS Mincho"/>
              </a:rPr>
              <a:t>(= future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2708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66"/>
                </a:solidFill>
                <a:latin typeface="Arial"/>
              </a:rPr>
              <a:t>Indeed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"/>
          <p:cNvSpPr/>
          <p:nvPr/>
        </p:nvSpPr>
        <p:spPr>
          <a:xfrm>
            <a:off x="178200" y="299736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66"/>
                </a:solidFill>
                <a:latin typeface="Arial"/>
              </a:rPr>
              <a:t>For example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"/>
          <p:cNvSpPr/>
          <p:nvPr/>
        </p:nvSpPr>
        <p:spPr>
          <a:xfrm>
            <a:off x="176760" y="3716280"/>
            <a:ext cx="11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66"/>
                </a:solidFill>
                <a:latin typeface="Arial"/>
              </a:rPr>
              <a:t>In addition,</a:t>
            </a:r>
            <a:r>
              <a:rPr b="0" lang="en-GB" sz="1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"/>
          <p:cNvSpPr/>
          <p:nvPr/>
        </p:nvSpPr>
        <p:spPr>
          <a:xfrm>
            <a:off x="-2160" y="5229360"/>
            <a:ext cx="15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66"/>
                </a:solidFill>
                <a:latin typeface="Arial"/>
              </a:rPr>
              <a:t>As a conclusion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"/>
          <p:cNvSpPr/>
          <p:nvPr/>
        </p:nvSpPr>
        <p:spPr>
          <a:xfrm>
            <a:off x="324360" y="484812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66"/>
                </a:solidFill>
                <a:latin typeface="Arial"/>
              </a:rPr>
              <a:t>However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numéro de diapositive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D0E5-4F6A-414A-BAC9-E1EECF78E41A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Conten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Réponse à la question posée?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Éliminer les informations superflues, les répéti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Organisation &amp; transitions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Forme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Respect des consignes (nombre de mots..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Présentation (paragraphes…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cc"/>
                </a:solidFill>
                <a:latin typeface="Verdana"/>
              </a:rPr>
              <a:t>Ponctu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189000"/>
            <a:ext cx="6305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lecture…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vec grille d’évalu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02920" y="1628640"/>
            <a:ext cx="3706920" cy="50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ésum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réhension et restitution d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formations  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talité des informations nécessaire à la compréhen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sibilité, expli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généralité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listes, transi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iveau linguistique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)   Correction de la langue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encer la phrase par le suje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phrases alambiqué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phrases sans ver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dre des mo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cord sujet-verb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rmes verbales bien construit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cordance des tem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noms relati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arais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03280" y="2276280"/>
            <a:ext cx="358164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–s aux adjectif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contractio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e « etc.. 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tilisation appropriée des articles (the, a, Ø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nc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thograph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verbes, prépositio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)   Richesse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thenticité (registre, colocation, mots de liaison approprié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ésence d’une variété de formes grammaticales et syntaxiques (modaux, gérondif, phrases complexes, comparatifs et superlatifs,…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signes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graph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gne entre 2 paragraph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mbre de mo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BE32-22B3-40FB-A929-D980896D3684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14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403280" y="1773360"/>
          <a:ext cx="7201080" cy="4620960"/>
        </p:xfrm>
        <a:graphic>
          <a:graphicData uri="http://schemas.openxmlformats.org/drawingml/2006/table">
            <a:tbl>
              <a:tblPr/>
              <a:tblGrid>
                <a:gridCol w="1729080"/>
                <a:gridCol w="2158920"/>
                <a:gridCol w="1800360"/>
                <a:gridCol w="1512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1-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1-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1-C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ramma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verbes/suje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ordre des mo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prépos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artic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x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f. li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f. li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riété du lexique et des constru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s de “copier-coller” &amp; répét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ganisation des paragraph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ts de liai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thographe et ponct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66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ste des erreurs fréqu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66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ppel des règles de ponctu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ppel 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ègles 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nctu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99cccc"/>
                          </a:solidFill>
                          <a:latin typeface="Verdana"/>
                          <a:ea typeface="Times New Roman"/>
                        </a:rPr>
                        <a:t>Liste détaillée avec « checkpoints 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99cccc"/>
                          </a:solidFill>
                          <a:latin typeface="Verdana"/>
                          <a:ea typeface="Times New Roman"/>
                        </a:rPr>
                        <a:t>Rappels + succin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99cccc"/>
                          </a:solidFill>
                          <a:latin typeface="Verdana"/>
                          <a:ea typeface="Times New Roman"/>
                        </a:rPr>
                        <a:t>Consignes / suj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0" y="5551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Titre 1"/>
          <p:cNvSpPr/>
          <p:nvPr/>
        </p:nvSpPr>
        <p:spPr>
          <a:xfrm>
            <a:off x="1258920" y="54936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Correction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258920" y="1844280"/>
            <a:ext cx="7416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000000"/>
                </a:solidFill>
                <a:latin typeface="Verdana"/>
              </a:rPr>
              <a:t>A1-A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Exemples isolés tirés de copies à corriger avec éléments souligné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Exercices de grammaire ciblé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000000"/>
                </a:solidFill>
                <a:latin typeface="Verdana"/>
              </a:rPr>
              <a:t>B1-B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Texte court ponctué d’erreurs tirées des copies à corriger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Exercices de grammaire ciblé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000000"/>
                </a:solidFill>
                <a:latin typeface="Verdana"/>
              </a:rPr>
              <a:t>C1-C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Exemple de production sans indica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Échange de copi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Remédi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ers une production autono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76000" y="1773000"/>
            <a:ext cx="7343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s outils pour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être capable de « réagir » face à un sujet, identifier attentes et difficulté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méliorer sa production (contenu, lexique et grammaire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 corrig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03280" y="549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Context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58920" y="2060280"/>
            <a:ext cx="7634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900" spc="-1" strike="noStrike">
                <a:solidFill>
                  <a:srgbClr val="000000"/>
                </a:solidFill>
                <a:latin typeface="Verdana"/>
              </a:rPr>
              <a:t>250 étudiants</a:t>
            </a:r>
            <a:r>
              <a:rPr b="0" lang="fr-BE" sz="29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900" spc="-1" strike="noStrike">
                <a:solidFill>
                  <a:srgbClr val="000000"/>
                </a:solidFill>
                <a:latin typeface="Verdana"/>
              </a:rPr>
              <a:t>Groupes de niveau (A1/A2, B1/B2, C1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900" spc="-1" strike="noStrike">
                <a:solidFill>
                  <a:srgbClr val="000000"/>
                </a:solidFill>
                <a:latin typeface="Verdana"/>
              </a:rPr>
              <a:t>Moyenne inférieure à 8/20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BE" sz="2900" spc="-1" strike="noStrike">
                <a:solidFill>
                  <a:srgbClr val="000000"/>
                </a:solidFill>
                <a:latin typeface="Verdana"/>
              </a:rPr>
              <a:t>= éliminatoi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Évalu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500" spc="-1" strike="noStrike">
                <a:solidFill>
                  <a:srgbClr val="000000"/>
                </a:solidFill>
                <a:latin typeface="Verdana"/>
              </a:rPr>
              <a:t>Contrôle continu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99cccc"/>
                </a:solidFill>
                <a:latin typeface="Verdana"/>
              </a:rPr>
              <a:t>C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99cccc"/>
                </a:solidFill>
                <a:latin typeface="Verdana"/>
              </a:rPr>
              <a:t>CE &amp; P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99cccc"/>
                </a:solidFill>
                <a:latin typeface="Verdana"/>
              </a:rPr>
              <a:t>P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500" spc="-1" strike="noStrike">
                <a:solidFill>
                  <a:srgbClr val="000000"/>
                </a:solidFill>
                <a:latin typeface="Verdana"/>
              </a:rPr>
              <a:t>Examen terminal: épreuve écrite commune aux différents group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99cccc"/>
                </a:solidFill>
                <a:latin typeface="Verdana"/>
              </a:rPr>
              <a:t>CO, CE &amp; P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73436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Exam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000"/>
            <a:ext cx="73134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Examen de 3h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Questions de difficulté graduée 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rammaire &amp; lexique : programme commu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réhension écrite : à partir d’un document authentiq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oduction écrite : 3 sujets en lien avec le document de 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47640" y="3630600"/>
          <a:ext cx="6048720" cy="32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630600"/>
                    <a:ext cx="604872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duction écrit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76360" y="1700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Choose ONE of the following subjects and write a 200 words essay. Use link words 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connect your arguments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1) “The ability to speak more than one language is essential in the modern world.” (l. 32) How far do you agree or disagree with this statement? </a:t>
            </a: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(C1-C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2) “High tech gadgets, such as phones or computers, are changing the way people work, live, love. They have also considerably modified our relation to places—and each other.” (l. 1-13) What are the advantages and drawbacks, as well as the implications of the explosion of new technologies? </a:t>
            </a: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(B1-B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3) Read the text and comment on the advantages and disadvantages of AM and FM radios. DO NOT COPY FROM THE TEXT. </a:t>
            </a: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(A1-A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35280" y="4508640"/>
            <a:ext cx="6265800" cy="22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549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Critères d’évalu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87280" y="1699920"/>
            <a:ext cx="78343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00000"/>
                </a:solidFill>
                <a:latin typeface="Calibri"/>
              </a:rPr>
              <a:t>Contenu &amp; struc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Reprise des arguments donnés dans le texte ou ajouts d’éléments nouveaux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</a:rPr>
              <a:t>0-1-2-3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Organisation/hiérarchisation de l’argumentation 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Expression d’opinions et d’idées personnelles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</a:rPr>
              <a:t>0-1-2-3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Lexique &amp; orthograph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ichesse (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emprunté au texte, vu en cours)</a:t>
            </a:r>
            <a:r>
              <a:rPr b="0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thenticité (registre, colocation, mots de liaison appropriés)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thographe &amp; ponctuation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rammaire &amp; syntax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Phrases simples &amp; complexes </a:t>
            </a:r>
            <a:r>
              <a:rPr b="0" i="1" lang="fr-FR" sz="1900" spc="-1" strike="noStrike">
                <a:solidFill>
                  <a:srgbClr val="000000"/>
                </a:solidFill>
                <a:latin typeface="Verdana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Formes verbales (temps, modalité) </a:t>
            </a:r>
            <a:r>
              <a:rPr b="0" i="1" lang="fr-BE" sz="1900" spc="-1" strike="noStrike">
                <a:solidFill>
                  <a:srgbClr val="000000"/>
                </a:solidFill>
                <a:latin typeface="Verdana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Verdana"/>
              </a:rPr>
              <a:t>Accords (verbe &amp; sujet, pronoms…) </a:t>
            </a:r>
            <a:r>
              <a:rPr b="0" i="1" lang="fr-BE" sz="1900" spc="-1" strike="noStrike">
                <a:solidFill>
                  <a:srgbClr val="000000"/>
                </a:solidFill>
                <a:latin typeface="Verdana"/>
              </a:rPr>
              <a:t>0-1-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En classe : travail en amo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15640" y="1699920"/>
            <a:ext cx="75992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Identification du type de sujet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cc"/>
                </a:solidFill>
                <a:latin typeface="Verdana"/>
              </a:rPr>
              <a:t>Question large.</a:t>
            </a:r>
            <a:r>
              <a:rPr b="0" lang="fr-FR" sz="18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i="1" lang="fr-FR" sz="1800" spc="-1" strike="noStrike">
                <a:solidFill>
                  <a:srgbClr val="99cccc"/>
                </a:solidFill>
                <a:latin typeface="Verdana"/>
              </a:rPr>
              <a:t>Ex: </a:t>
            </a:r>
            <a:r>
              <a:rPr b="0" i="1" lang="en-GB" sz="1800" spc="-1" strike="noStrike">
                <a:solidFill>
                  <a:srgbClr val="99cccc"/>
                </a:solidFill>
                <a:latin typeface="Verdana"/>
              </a:rPr>
              <a:t>According to you, should technological improvements be used in sport? What are the advantages? What are the risks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cc"/>
                </a:solidFill>
                <a:latin typeface="Verdana"/>
              </a:rPr>
              <a:t>Reprise d’un point soulevé dans un texte.</a:t>
            </a:r>
            <a:r>
              <a:rPr b="0" lang="fr-FR" sz="18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i="1" lang="fr-FR" sz="1800" spc="-1" strike="noStrike">
                <a:solidFill>
                  <a:srgbClr val="99cccc"/>
                </a:solidFill>
                <a:latin typeface="Verdana"/>
              </a:rPr>
              <a:t>Ex. </a:t>
            </a:r>
            <a:r>
              <a:rPr b="0" i="1" lang="en-GB" sz="1800" spc="-1" strike="noStrike">
                <a:solidFill>
                  <a:srgbClr val="99cccc"/>
                </a:solidFill>
                <a:latin typeface="Verdana"/>
              </a:rPr>
              <a:t>According to the article, “there is the potential for technology to do much more” (l. 44). Can you give examples of other potential applications in sport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cccc"/>
                </a:solidFill>
                <a:latin typeface="Verdana"/>
              </a:rPr>
              <a:t>Reformulation ou résum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000000"/>
                </a:solidFill>
                <a:latin typeface="Verdana"/>
              </a:rPr>
              <a:t>Spécificités liées au sujet (registre, argument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000000"/>
                </a:solidFill>
                <a:latin typeface="Verdana"/>
              </a:rPr>
              <a:t>Anticipation et mobilisation des ressources (lexique, structures utiles…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68360" y="299736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33591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03280" y="1689120"/>
          <a:ext cx="7345080" cy="4654440"/>
        </p:xfrm>
        <a:graphic>
          <a:graphicData uri="http://schemas.openxmlformats.org/drawingml/2006/table">
            <a:tbl>
              <a:tblPr/>
              <a:tblGrid>
                <a:gridCol w="2690640"/>
                <a:gridCol w="2692080"/>
                <a:gridCol w="196236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1-A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1-B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1-C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roduction du suj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CO ou C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u: Question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urpose stay 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nght 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people 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ype of rooms ?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tra facilities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u: Brainstorm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Arguments (pros &amp; con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e d’exemp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u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frontation de points de v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évelopper les exemp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rammaire et lexique 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nner une liste de voc de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ase, avec repérage dans un document (écrit ou oral) &amp; une liste de structures uti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99cccc"/>
                          </a:solidFill>
                          <a:latin typeface="Verdana"/>
                          <a:ea typeface="Times New Roman"/>
                        </a:rPr>
                        <a:t>(“Survival Kit”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rammaire et lexique 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stituer en classe une liste de voc &amp; donner une liste de structures uti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rammaire et lexique 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gistres &amp; nuan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itre 1"/>
          <p:cNvSpPr/>
          <p:nvPr/>
        </p:nvSpPr>
        <p:spPr>
          <a:xfrm>
            <a:off x="1403280" y="40464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66"/>
                </a:solidFill>
                <a:latin typeface="Arial"/>
              </a:rPr>
              <a:t>Boîte à outil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6666"/>
                </a:solidFill>
                <a:latin typeface="Arial"/>
              </a:rPr>
              <a:t>« Survival kit 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31640" y="1827360"/>
            <a:ext cx="735156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xpressing your point of vie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s far as I am concerned, for my part, personally 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ersonnell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o my mind, in my view, in my opinion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: à mon av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cccc"/>
                </a:solidFill>
                <a:latin typeface="Verdana"/>
              </a:rPr>
              <a:t>I think that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 have a few reservations/doubts about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+sth/Ving: j’ai quelqu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éserves/doutes à propos 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Verbs of opin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o discuss sth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: discuter, examiner (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The issue was discussed at Monday’s meeting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cccc"/>
                </a:solidFill>
                <a:latin typeface="Verdana"/>
              </a:rPr>
              <a:t>to describe sth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: décrire, qualifier (</a:t>
            </a:r>
            <a:r>
              <a:rPr b="0" i="1" lang="en-GB" sz="1600" spc="-1" strike="noStrike">
                <a:solidFill>
                  <a:srgbClr val="99cccc"/>
                </a:solidFill>
                <a:latin typeface="Verdana"/>
              </a:rPr>
              <a:t>Their attitude can hardly be described as impartial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o advocate sth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: préconiser, prôner (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Some environmentalists advocate the dismantling of nuclear plant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cccc"/>
                </a:solidFill>
                <a:latin typeface="Verdana"/>
              </a:rPr>
              <a:t>to agree / to disagree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99cccc"/>
                </a:solidFill>
                <a:latin typeface="Verdana"/>
              </a:rPr>
              <a:t>with sth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 : être d’accord / ne pas être d’accord (</a:t>
            </a:r>
            <a:r>
              <a:rPr b="0" i="1" lang="en-GB" sz="1600" spc="-1" strike="noStrike">
                <a:solidFill>
                  <a:srgbClr val="99cccc"/>
                </a:solidFill>
                <a:latin typeface="Verdana"/>
              </a:rPr>
              <a:t>I disagree with the journalist’s point of view</a:t>
            </a:r>
            <a:r>
              <a:rPr b="0" lang="en-GB" sz="1600" spc="-1" strike="noStrike">
                <a:solidFill>
                  <a:srgbClr val="99cccc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3:56:03Z</dcterms:created>
  <dc:creator>ISLV</dc:creator>
  <dc:description/>
  <dc:language>en-US</dc:language>
  <cp:lastModifiedBy>Gilles</cp:lastModifiedBy>
  <dcterms:modified xsi:type="dcterms:W3CDTF">2014-01-29T18:04:13Z</dcterms:modified>
  <cp:revision>114</cp:revision>
  <dc:subject/>
  <dc:title>Enseigner la grammaire en FLE : pourquoi et comment ?</dc:title>
</cp:coreProperties>
</file>