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1492-51AF-4348-BEBB-58FF6D7D9B5A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5379-C53C-48B6-BA16-06C3E13F0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3664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8FD8-960B-45EB-80E6-245932477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C96-D6C6-4DF3-BC2D-CCE27841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858-6905-4A8F-BACB-28CFA721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694-CFF3-4EB0-97A9-70020E2E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3C84-36D5-443A-B34F-72943CBD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9744-BA67-4329-8179-0BC0FDD9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A84C-5E09-47FC-8462-3B4C8ED2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3934-43A0-48F3-A014-8881E63A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63DF-8112-4767-A6D5-14FEC450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00F5-C8AA-4322-8383-20BFB321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89EC-401B-4184-A2E2-EBBD95EF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FD1A-2341-43C8-A3C5-5F001ECA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16D-5359-4BA0-8A9A-12E33FC4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1261-EDA6-449C-895A-8F1A7AAD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5FC7-AAA1-428D-BBEB-C04257EA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B175-ED02-4735-B1E7-4E7274F1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A859-9682-4C5E-A9B0-C270109C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8D58-D15F-4CFB-9582-17901AEB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AA62-68E2-44DB-A7CE-B0D74EFF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AED-6B2B-4381-BDE9-BC11CE8A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FAD-3657-436D-90EE-5D8486EF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64D-71F4-4B53-8E6E-24BA4E60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AB93-BD7D-4DD8-9FBC-A6AD8606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A16A-35E7-42FE-B6D5-22EC63D4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BA67-151A-4528-9305-E9A233C1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CED4-D786-41F1-BE3B-0DC9BC16B2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BCCD-6DD2-4310-A00B-80D707E77F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8461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BE" sz="20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fr-BE" sz="2400" spc="-1" strike="noStrike">
                <a:solidFill>
                  <a:srgbClr val="b2b2b2"/>
                </a:solidFill>
                <a:latin typeface="Arial"/>
              </a:rPr>
              <a:t>Journée d’études ULB – 30/01/2014</a:t>
            </a:r>
            <a:r>
              <a:rPr b="1" lang="fr-BE" sz="28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2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fr-BE" sz="1800" spc="-1" strike="noStrike">
                <a:solidFill>
                  <a:srgbClr val="b2b2b2"/>
                </a:solidFill>
                <a:latin typeface="Arial"/>
              </a:rPr>
              <a:t>   </a:t>
            </a:r>
            <a:r>
              <a:rPr b="1" lang="fr-BE" sz="3600" spc="-1" strike="noStrike">
                <a:solidFill>
                  <a:srgbClr val="b2b2b2"/>
                </a:solidFill>
                <a:latin typeface="Arial"/>
              </a:rPr>
              <a:t>Développement des </a:t>
            </a:r>
            <a:br>
              <a:rPr sz="3600"/>
            </a:br>
            <a:r>
              <a:rPr b="1" lang="fr-BE" sz="3600" spc="-1" strike="noStrike">
                <a:solidFill>
                  <a:srgbClr val="b2b2b2"/>
                </a:solidFill>
                <a:latin typeface="Arial"/>
              </a:rPr>
              <a:t> compétences écrites </a:t>
            </a:r>
            <a:br>
              <a:rPr sz="3600"/>
            </a:br>
            <a:r>
              <a:rPr b="1" lang="fr-BE" sz="3600" spc="-1" strike="noStrike">
                <a:solidFill>
                  <a:srgbClr val="b2b2b2"/>
                </a:solidFill>
                <a:latin typeface="Arial"/>
              </a:rPr>
              <a:t> dans une pédagogie différenciée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69760" y="4435560"/>
            <a:ext cx="4181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6666"/>
                </a:solidFill>
                <a:latin typeface="Verdana"/>
              </a:rPr>
              <a:t>Emilie Pi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336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6666"/>
                </a:solidFill>
                <a:latin typeface="Verdana"/>
              </a:rPr>
              <a:t>Université Libre de Bruxel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258920" y="1916280"/>
          <a:ext cx="7489800" cy="3554280"/>
        </p:xfrm>
        <a:graphic>
          <a:graphicData uri="http://schemas.openxmlformats.org/drawingml/2006/table">
            <a:tbl>
              <a:tblPr/>
              <a:tblGrid>
                <a:gridCol w="2736720"/>
                <a:gridCol w="2448000"/>
                <a:gridCol w="230508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1-A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1-B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1-C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ction de chaque paragraphe (conten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s &amp; struc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mbre 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agrap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justement 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 /paragrap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Mincho"/>
                        </a:rPr>
                        <a:t>Organ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lvl="1" marL="179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Mincho"/>
                        </a:rPr>
                        <a:t>Hiérarchisation Trans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99cccc"/>
                          </a:solidFill>
                          <a:latin typeface="Verdana"/>
                        </a:rPr>
                        <a:t>= « squelette » à complé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cc"/>
                          </a:solidFill>
                          <a:latin typeface="Verdana"/>
                        </a:rPr>
                        <a:t>= paragraph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cc"/>
                          </a:solidFill>
                          <a:latin typeface="Verdana"/>
                        </a:rPr>
                        <a:t>= à l’intérieur et « entre » les paragrap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258920" y="69228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6666"/>
                </a:solidFill>
                <a:latin typeface="Arial"/>
              </a:rPr>
              <a:t>Structur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58920" y="54936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6666"/>
                </a:solidFill>
                <a:latin typeface="Arial"/>
              </a:rPr>
              <a:t>Exemple de « squelette 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1628640"/>
            <a:ext cx="741672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dicate the function of each section (&amp; tenses used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1 : Int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finition + introduction de la question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tate of the art”  (articles publiés sur la question)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 present perfec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xemple d’expériences passées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simple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 2 : Participants &amp; methods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Design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</a:rPr>
              <a:t>What was done =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tatistical analysis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3: Result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Number of patients &amp; characteristic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Prim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econd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4: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Discussio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General conclusion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(What is sure = 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ide effects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What is possible = modals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Sub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What remains to be done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= future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58920" y="1773360"/>
            <a:ext cx="7705800" cy="41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b. Concentrate on link words &amp; the organisation of ideas 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Link word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at join ideas across sentences and paragraphs: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text organizer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Sequencing: First (of all), Secondly, Next, Then, Finally.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Adding information : Furthermore..., Moreover..., In addition to..., As well as this..., Besides (this)..., not only…but also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Explaining: In fact, actually, as a matter of fact, indeed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Emphasising : Above all, especially, all the more so as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larifying : For example, for instance, in other words, i.e., e.g...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Link words 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that join clauses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within a sentence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Purpose: in order to, so as to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ontrast: Although, even though, however, nevertheless, despite &amp; in spite of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ause: because, as, since, on account of, due to, owing to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onsequence: Thus, therefore, as a result, consequently, as a consequence, so, hence, for this reason, that’s why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ondition: if, Unless, provided that, so long as, as long as, until, as soon as, once, supposing that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ccc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58920" y="54936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6666"/>
                </a:solidFill>
                <a:latin typeface="Arial"/>
              </a:rPr>
              <a:t>Exemple de « squelette 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1628640"/>
            <a:ext cx="741672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dicate the function of each section (&amp; tenses used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1 : Int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finition + introduction de la question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tate of the art”  (articles publiés sur la question)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 present perfec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xemple d’expériences passées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simple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 2 : Participants &amp; methods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</a:rPr>
              <a:t>What was done =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tatistical analysis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3: Result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Number of patients &amp; characteristic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Prim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econd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4: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Discussio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General conclusion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(What is sure = 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ide effects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What is possible = modals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Sub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What remains to be done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= future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708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66"/>
                </a:solidFill>
                <a:latin typeface="Arial"/>
              </a:rPr>
              <a:t>Indeed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"/>
          <p:cNvSpPr/>
          <p:nvPr/>
        </p:nvSpPr>
        <p:spPr>
          <a:xfrm>
            <a:off x="178200" y="299736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66"/>
                </a:solidFill>
                <a:latin typeface="Arial"/>
              </a:rPr>
              <a:t>For exampl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"/>
          <p:cNvSpPr/>
          <p:nvPr/>
        </p:nvSpPr>
        <p:spPr>
          <a:xfrm>
            <a:off x="176760" y="3716280"/>
            <a:ext cx="11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In addition,</a:t>
            </a: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"/>
          <p:cNvSpPr/>
          <p:nvPr/>
        </p:nvSpPr>
        <p:spPr>
          <a:xfrm>
            <a:off x="-2160" y="5229360"/>
            <a:ext cx="15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As a conclusion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"/>
          <p:cNvSpPr/>
          <p:nvPr/>
        </p:nvSpPr>
        <p:spPr>
          <a:xfrm>
            <a:off x="324360" y="484812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However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numéro de diapositive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A996-48BD-4030-83C6-AAC3DD3BDB1D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onten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Réponse à la question posée?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Éliminer les informations superflues, les répéti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Organisation &amp; transition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Form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Respect des consignes (nombre de mots..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Présentation (paragraphes…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Ponctu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189000"/>
            <a:ext cx="6305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lecture…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vec grille d’é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3706920" cy="50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m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réhension et restitution 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formations  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talité des informations nécessaire à la compréhen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ilité, ex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généralité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listes, transi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iveau linguistique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)   Correction de la langue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encer la phrase par le suje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phrases alambiqué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phrases sans ver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dre des mo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ord sujet-verb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mes verbales bien construit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cordance des tem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noms relati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arais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3280" y="2276280"/>
            <a:ext cx="358164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–s aux adjectif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contractio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« etc.. 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tilisation appropriée des articles (the, a, Ø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nc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thograp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verbes, prépositio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)   Richesse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enticité (registre, colocation, mots de liaison approprié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ésence d’une variété de formes grammaticales et syntaxiques (modaux, gérondif, phrases complexes, comparatifs et superlatifs,…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signes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graph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gne entre 2 paragraph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mbre de mo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435B-8DFE-4F9B-BC21-92E5B2256C89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03280" y="1773360"/>
          <a:ext cx="7201080" cy="4620960"/>
        </p:xfrm>
        <a:graphic>
          <a:graphicData uri="http://schemas.openxmlformats.org/drawingml/2006/table">
            <a:tbl>
              <a:tblPr/>
              <a:tblGrid>
                <a:gridCol w="1729080"/>
                <a:gridCol w="2158920"/>
                <a:gridCol w="1800360"/>
                <a:gridCol w="1512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1-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1-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1-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verbes/suje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ordre des mo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prépos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artic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x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f. li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f. li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riété du lexique et des constru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s de “copier-coller” &amp; répét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ganisation des paragraph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ts de liai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thographe et ponct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ste des erreurs fréq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ppel des règles de ponctu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ppel 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ègles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nctu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Liste détaillée avec « checkpoints 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Rappels + succin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Consignes / suj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0" y="5551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Titre 1"/>
          <p:cNvSpPr/>
          <p:nvPr/>
        </p:nvSpPr>
        <p:spPr>
          <a:xfrm>
            <a:off x="1258920" y="54936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Correction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58920" y="184428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Verdana"/>
              </a:rPr>
              <a:t>A1-A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mples isolés tirés de copies à corriger avec éléments souligné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rcices de grammaire ciblé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Verdana"/>
              </a:rPr>
              <a:t>B1-B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Texte court ponctué d’erreurs tirées des copies à corriger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rcices de grammaire ciblé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Verdana"/>
              </a:rPr>
              <a:t>C1-C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mple de production sans indica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Échange de copi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Remédi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rs une production autono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76000" y="1773000"/>
            <a:ext cx="7343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s outils pour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être capable de « réagir » face à un sujet, identifier attentes et difficulté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méliorer sa production (contenu, lexique et grammaire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 corrig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Contex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58920" y="2060280"/>
            <a:ext cx="7634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250 étudiants</a:t>
            </a:r>
            <a:r>
              <a:rPr b="0" lang="fr-BE" sz="29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Groupes de niveau (A1/A2, B1/B2, C1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Moyenne inférieure à 8/20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= éliminatoi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É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" spc="-1" strike="noStrike">
                <a:solidFill>
                  <a:srgbClr val="000000"/>
                </a:solidFill>
                <a:latin typeface="Verdana"/>
              </a:rPr>
              <a:t>Contrôle continu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C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CE &amp; P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P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" spc="-1" strike="noStrike">
                <a:solidFill>
                  <a:srgbClr val="000000"/>
                </a:solidFill>
                <a:latin typeface="Verdana"/>
              </a:rPr>
              <a:t>Examen terminal: épreuve écrite commune aux différents group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CO, CE &amp; P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3436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Exam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000"/>
            <a:ext cx="73134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xamen de 3h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Questions de difficulté graduée 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rammaire &amp; lexique : programme commu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réhension écrite : à partir d’un document authentiq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oduction écrite : 3 sujets en lien avec le document de 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47640" y="3630600"/>
          <a:ext cx="604872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630600"/>
                    <a:ext cx="604872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duction écri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76360" y="1700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hoose ONE of the following subjects and write a 200 words essay. Use link words 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onnect your arguments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1) “The ability to speak more than one language is essential in the modern world.” (l. 32) How far do you agree or disagree with this statement? </a:t>
            </a: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(C1-C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2) “High tech gadgets, such as phones or computers, are changing the way people work, live, love. They have also considerably modified our relation to places—and each other.” (l. 1-13) What are the advantages and drawbacks, as well as the implications of the explosion of new technologies? </a:t>
            </a: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(B1-B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3) Read the text and comment on the advantages and disadvantages of AM and FM radios. DO NOT COPY FROM THE TEXT. </a:t>
            </a: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(A1-A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5280" y="4508640"/>
            <a:ext cx="626580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549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Critères d’é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7280" y="1699920"/>
            <a:ext cx="78343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Calibri"/>
              </a:rPr>
              <a:t>Contenu &amp; struc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Reprise des arguments donnés dans le texte ou ajouts d’éléments nouveaux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-3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Organisation/hiérarchisation de l’argumentation 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Expression d’opinions et d’idées personnelles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-3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Lexique &amp; orthograp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ichesse (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emprunté au texte, vu en cours)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enticité (registre, colocation, mots de liaison appropriés)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thographe &amp; ponctuation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rammaire &amp; syntax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Phrases simples &amp; complexes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Formes verbales (temps, modalité) </a:t>
            </a:r>
            <a:r>
              <a:rPr b="0" i="1" lang="fr-BE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Accords (verbe &amp; sujet, pronoms…) </a:t>
            </a:r>
            <a:r>
              <a:rPr b="0" i="1" lang="fr-BE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En classe : travail en amo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15640" y="1699920"/>
            <a:ext cx="7599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Identification du type de sujet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cc"/>
                </a:solidFill>
                <a:latin typeface="Verdana"/>
              </a:rPr>
              <a:t>Question large.</a:t>
            </a:r>
            <a:r>
              <a:rPr b="0" lang="fr-FR" sz="18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i="1" lang="fr-FR" sz="1800" spc="-1" strike="noStrike">
                <a:solidFill>
                  <a:srgbClr val="99cccc"/>
                </a:solidFill>
                <a:latin typeface="Verdana"/>
              </a:rPr>
              <a:t>Ex: </a:t>
            </a:r>
            <a:r>
              <a:rPr b="0" i="1" lang="en-GB" sz="1800" spc="-1" strike="noStrike">
                <a:solidFill>
                  <a:srgbClr val="99cccc"/>
                </a:solidFill>
                <a:latin typeface="Verdana"/>
              </a:rPr>
              <a:t>According to you, should technological improvements be used in sport? What are the advantages? What are the risks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cc"/>
                </a:solidFill>
                <a:latin typeface="Verdana"/>
              </a:rPr>
              <a:t>Reprise d’un point soulevé dans un texte.</a:t>
            </a:r>
            <a:r>
              <a:rPr b="0" lang="fr-FR" sz="18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i="1" lang="fr-FR" sz="1800" spc="-1" strike="noStrike">
                <a:solidFill>
                  <a:srgbClr val="99cccc"/>
                </a:solidFill>
                <a:latin typeface="Verdana"/>
              </a:rPr>
              <a:t>Ex. </a:t>
            </a:r>
            <a:r>
              <a:rPr b="0" i="1" lang="en-GB" sz="1800" spc="-1" strike="noStrike">
                <a:solidFill>
                  <a:srgbClr val="99cccc"/>
                </a:solidFill>
                <a:latin typeface="Verdana"/>
              </a:rPr>
              <a:t>According to the article, “there is the potential for technology to do much more” (l. 44). Can you give examples of other potential applications in sport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cccc"/>
                </a:solidFill>
                <a:latin typeface="Verdana"/>
              </a:rPr>
              <a:t>Reformulation ou résum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0000"/>
                </a:solidFill>
                <a:latin typeface="Verdana"/>
              </a:rPr>
              <a:t>Spécificités liées au sujet (registre, argument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0000"/>
                </a:solidFill>
                <a:latin typeface="Verdana"/>
              </a:rPr>
              <a:t>Anticipation et mobilisation des ressources (lexique, structures utiles…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68360" y="2997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33591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03280" y="1689120"/>
          <a:ext cx="7345080" cy="4654440"/>
        </p:xfrm>
        <a:graphic>
          <a:graphicData uri="http://schemas.openxmlformats.org/drawingml/2006/table">
            <a:tbl>
              <a:tblPr/>
              <a:tblGrid>
                <a:gridCol w="2690640"/>
                <a:gridCol w="2692080"/>
                <a:gridCol w="196236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1-A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1-B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1-C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roduction du suj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CO ou C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: Question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urpose stay 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nght 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people 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ype of rooms ?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tra facilities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: Brainstorm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Arguments (pros &amp; co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e d’exemp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frontation de points de v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évelopper les exemp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 et lexique 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nner une liste de voc de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ase, avec repérage dans un document (écrit ou oral) &amp; une liste de structures uti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(“Survival Kit”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 et lexique 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stituer en classe une liste de voc &amp; donner une liste de structures uti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 et lexique 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istres &amp; nua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itre 1"/>
          <p:cNvSpPr/>
          <p:nvPr/>
        </p:nvSpPr>
        <p:spPr>
          <a:xfrm>
            <a:off x="1403280" y="40464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Boîte à outil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« Survival kit 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1640" y="1827360"/>
            <a:ext cx="735156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xpressing your point of vi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s far as I am concerned, for my part, personally 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ersonnell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o my mind, in my view, in my opin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: à mon av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I think that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 have a few reservations/doubts about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+sth/Ving: j’ai quelqu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éserves/doutes à propos 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Verbs of opin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o discuss sth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: discuter, examiner (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The issue was discussed at Monday’s meet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to describe sth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: décrire, qualifier (</a:t>
            </a:r>
            <a:r>
              <a:rPr b="0" i="1" lang="en-GB" sz="1600" spc="-1" strike="noStrike">
                <a:solidFill>
                  <a:srgbClr val="99cccc"/>
                </a:solidFill>
                <a:latin typeface="Verdana"/>
              </a:rPr>
              <a:t>Their attitude can hardly be described as impartial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o advocate sth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: préconiser, prôner (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Some environmentalists advocate the dismantling of nuclear plant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to agree / to disagree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with sth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 : être d’accord / ne pas être d’accord (</a:t>
            </a:r>
            <a:r>
              <a:rPr b="0" i="1" lang="en-GB" sz="1600" spc="-1" strike="noStrike">
                <a:solidFill>
                  <a:srgbClr val="99cccc"/>
                </a:solidFill>
                <a:latin typeface="Verdana"/>
              </a:rPr>
              <a:t>I disagree with the journalist’s point of view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3:56:03Z</dcterms:created>
  <dc:creator>ISLV</dc:creator>
  <dc:description/>
  <dc:language>en-US</dc:language>
  <cp:lastModifiedBy>Gilles</cp:lastModifiedBy>
  <dcterms:modified xsi:type="dcterms:W3CDTF">2014-01-29T18:04:13Z</dcterms:modified>
  <cp:revision>114</cp:revision>
  <dc:subject/>
  <dc:title>Enseigner la grammaire en FLE : pourquoi et comment ?</dc:title>
</cp:coreProperties>
</file>