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9FC-B649-4B5A-A1BA-32962B53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C40-5279-4C32-B39B-062C6E9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6CD-0A43-48EC-8B87-2D5D18C9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587-BDA3-496F-9FDE-AF332433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A6B7-F8F3-45E5-ADB9-CD584B50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D22-8AC5-40B5-BC64-5EDBADE4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70FD-2174-4024-9C76-7982A4F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F09E-E113-43E5-95CC-EECAA38E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C66-3774-4F4E-BCFE-B6DD46C8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A5C3-5CE6-427B-863A-6272367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C1CC-90E7-428E-B46C-93694DC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A89-5F90-4F28-9ADD-547CA1B6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64A-CD71-4942-80CD-0FD18E4C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AB54-15C2-437B-9E96-57F71DF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FF7D-C0D6-413E-B261-134629CB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5727-681D-480A-9B83-4B217BD6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9795-DDBD-4BAE-87DB-B590213D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47C-8E2F-4961-875A-6BD605F1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F2E-3525-4B04-BC1E-F90C31CB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424-7C4C-40A3-8119-BA5A007E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EE6-5EDA-4022-8F04-50079230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6EB-A19D-48E5-803F-A217B10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E22-FDA4-44E5-9CD5-ACF6816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B1B-C890-46AE-A303-1DFC404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8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6FF0-7529-4790-9363-4F9CDE53AAA9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619280" y="646200"/>
            <a:ext cx="6121440" cy="556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1" descr="http://www.ulb.ac.be/preview1/dre/com/docs/ULB-ligne-droite.jpg"/>
          <p:cNvPicPr/>
          <p:nvPr/>
        </p:nvPicPr>
        <p:blipFill>
          <a:blip r:embed="rId3"/>
          <a:stretch/>
        </p:blipFill>
        <p:spPr>
          <a:xfrm>
            <a:off x="-6480" y="0"/>
            <a:ext cx="5194440" cy="785880"/>
          </a:xfrm>
          <a:prstGeom prst="rect">
            <a:avLst/>
          </a:prstGeom>
          <a:ln w="0">
            <a:noFill/>
          </a:ln>
        </p:spPr>
      </p:pic>
      <p:pic>
        <p:nvPicPr>
          <p:cNvPr id="7" name="Image 8" descr=""/>
          <p:cNvPicPr/>
          <p:nvPr/>
        </p:nvPicPr>
        <p:blipFill>
          <a:blip r:embed="rId4"/>
          <a:stretch/>
        </p:blipFill>
        <p:spPr>
          <a:xfrm>
            <a:off x="-6480" y="6778800"/>
            <a:ext cx="9150480" cy="7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1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0992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D274-1B6B-438D-987A-B9CDA92B5D7B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5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89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13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ultigram.ulb.ac.b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2691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« Vite fait, bien fait !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834920" y="3141720"/>
            <a:ext cx="70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ou comment exploiter efficacement le tem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dans un cours d’expression orale</a:t>
            </a: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nl-BE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1"/>
          <p:cNvSpPr/>
          <p:nvPr/>
        </p:nvSpPr>
        <p:spPr>
          <a:xfrm>
            <a:off x="169236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abina Gola, Dag Houdmont, Thea Rim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. Contexte, problémat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et intérêt pédagog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"/>
          <p:cNvSpPr/>
          <p:nvPr/>
        </p:nvSpPr>
        <p:spPr>
          <a:xfrm>
            <a:off x="873720" y="1989000"/>
            <a:ext cx="810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ratique de l’expression orale → prend beaucoup de te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groupes assez grands, relativement peu nombre d’he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Quelle méthode pour activer les connaissances, pratiquer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corriger, avec un suivi personnel, sur mesure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ublic cib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 A2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mpétences développ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lecture/éc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s’exprimer oralement/écr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2. Dispositif mis en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oneTexte 1"/>
          <p:cNvSpPr/>
          <p:nvPr/>
        </p:nvSpPr>
        <p:spPr>
          <a:xfrm>
            <a:off x="306720" y="1687680"/>
            <a:ext cx="9147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2.1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ublication ou distributi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r le professeu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e l’agen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ec les sujets à traiter en début d’ann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âch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our les étudia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istes de vocabulaire/phrases/expressions thémat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à étudier à la m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 : répondre à des questions, donner leurs opin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ersonnelles, préparer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ant le cours : déposer les réponses en ligne (UV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+ dans le portfolio (= toutes les préparations de l’année 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version finale la base pour l’examen o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oneTexte 1"/>
          <p:cNvSpPr/>
          <p:nvPr/>
        </p:nvSpPr>
        <p:spPr>
          <a:xfrm>
            <a:off x="684360" y="692280"/>
            <a:ext cx="856152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2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Un étudiant présente ses réponses aux ques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sans lecture, production assez spontanée, mots clés devant l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roupe nombreux: par deux ou par petits sous-grou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es autres étudian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o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qqs mots clés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pè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’essent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+ contrôle (par le professeur et par l’étudiant qui a fait l’expos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eedback immédiat: qqs remarques après chaqu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étudiant note les fautes + rapporter à la fin du cours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 la fin du cours: 2-3 points par étudiant qu’ils doivent amélio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ggestions de matériel en lig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Multigram: 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ultigram.ulb.ac.be/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d’autres sites sur conjugaisons, vocabulaire, grammaire …)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mage 2" descr="Schermafbeelding 2014-12-05 om 11.26.26.png"/>
          <p:cNvPicPr/>
          <p:nvPr/>
        </p:nvPicPr>
        <p:blipFill>
          <a:blip r:embed="rId2"/>
          <a:stretch/>
        </p:blipFill>
        <p:spPr>
          <a:xfrm>
            <a:off x="7093080" y="5157720"/>
            <a:ext cx="922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3. Résult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687600" y="1268280"/>
            <a:ext cx="777492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Travail pour l’enseig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+ choix de vidéos ou textes à éco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en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envoi des remarques à chaque étudiant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- Mise à disposition du matériel de remé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Bénéfices pour les étudiants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entissage en autono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ticipation active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→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xique-grammaire: apprentissage/approfondiss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sur mesure (en classe + corrections envoyées aprè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tout au long du quadrimestre de l’examen final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4. Bilan e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726840" y="1268280"/>
            <a:ext cx="843156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Bonne préparation au préalable du sujet → bon fonctionn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Écriture d’un essai sur le sujet traité avec recherche personn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’autres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Examen oral/écrit : discussion/questions  sur un des sujets trai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Pour les niveaux plus avancés : sans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intermédiaire (Ba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4" descr="Schermafbeelding 2014-12-07 om 18.29.11.png"/>
          <p:cNvPicPr/>
          <p:nvPr/>
        </p:nvPicPr>
        <p:blipFill>
          <a:blip r:embed="rId1"/>
          <a:stretch/>
        </p:blipFill>
        <p:spPr>
          <a:xfrm>
            <a:off x="4191120" y="1484280"/>
            <a:ext cx="4952880" cy="252720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" descr="Schermafbeelding 2014-12-09 om 10.48.24.png"/>
          <p:cNvPicPr/>
          <p:nvPr/>
        </p:nvPicPr>
        <p:blipFill>
          <a:blip r:embed="rId2"/>
          <a:stretch/>
        </p:blipFill>
        <p:spPr>
          <a:xfrm>
            <a:off x="826920" y="1484280"/>
            <a:ext cx="339120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Image 2" descr="Schermafbeelding 2014-12-09 om 10.49.20.png"/>
          <p:cNvPicPr/>
          <p:nvPr/>
        </p:nvPicPr>
        <p:blipFill>
          <a:blip r:embed="rId3"/>
          <a:stretch/>
        </p:blipFill>
        <p:spPr>
          <a:xfrm>
            <a:off x="900000" y="4076640"/>
            <a:ext cx="7035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avancé (Ba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Schermafbeelding 2014-12-07 om 18.11.34.png"/>
          <p:cNvPicPr/>
          <p:nvPr/>
        </p:nvPicPr>
        <p:blipFill>
          <a:blip r:embed="rId1"/>
          <a:stretch/>
        </p:blipFill>
        <p:spPr>
          <a:xfrm>
            <a:off x="684360" y="4508640"/>
            <a:ext cx="6819840" cy="2082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" descr="Schermafbeelding 2014-12-09 om 08.45.19.png"/>
          <p:cNvPicPr/>
          <p:nvPr/>
        </p:nvPicPr>
        <p:blipFill>
          <a:blip r:embed="rId2"/>
          <a:stretch/>
        </p:blipFill>
        <p:spPr>
          <a:xfrm>
            <a:off x="684360" y="1413000"/>
            <a:ext cx="4965480" cy="2222280"/>
          </a:xfrm>
          <a:prstGeom prst="rect">
            <a:avLst/>
          </a:prstGeom>
          <a:ln w="0">
            <a:noFill/>
          </a:ln>
        </p:spPr>
      </p:pic>
      <p:pic>
        <p:nvPicPr>
          <p:cNvPr id="190" name="Image 2" descr="Schermafbeelding 2014-12-07 om 18.10.41.png"/>
          <p:cNvPicPr/>
          <p:nvPr/>
        </p:nvPicPr>
        <p:blipFill>
          <a:blip r:embed="rId3"/>
          <a:stretch/>
        </p:blipFill>
        <p:spPr>
          <a:xfrm>
            <a:off x="4500720" y="2565360"/>
            <a:ext cx="5892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ogramme (Ba2) sur UV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Image 1" descr="Schermafbeelding 2014-12-06 om 11.10.40.png"/>
          <p:cNvPicPr/>
          <p:nvPr/>
        </p:nvPicPr>
        <p:blipFill>
          <a:blip r:embed="rId1"/>
          <a:stretch/>
        </p:blipFill>
        <p:spPr>
          <a:xfrm>
            <a:off x="1042920" y="1844640"/>
            <a:ext cx="71643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9:37:16Z</dcterms:created>
  <dc:creator>Utilisateur Windows</dc:creator>
  <dc:description/>
  <dc:language>en-US</dc:language>
  <cp:lastModifiedBy>Utilisateur Windows</cp:lastModifiedBy>
  <cp:lastPrinted>2014-12-09T07:50:55Z</cp:lastPrinted>
  <dcterms:modified xsi:type="dcterms:W3CDTF">2014-12-09T13:36:18Z</dcterms:modified>
  <cp:revision>86</cp:revision>
  <dc:subject/>
  <dc:title>Présentation PowerPoint</dc:title>
</cp:coreProperties>
</file>