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4E58-0F96-4094-8285-460D0B9D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287D-FEAC-4BD6-AFD9-FEA88D99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076-C756-46F8-BF86-90D06470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7D1-DF3A-437C-A06B-721906E9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6A4A-36DA-4FDE-8BEB-9E889776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6EEB-A793-4838-B535-5941EE57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6973-BC54-4F9E-9CDB-6028B05E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0ECD-6153-4B09-A016-951AA8A5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E1A0-3D78-4C6D-B932-80EF329A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3751-15F2-4C65-BEA9-F7E1BAE0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3D64-D6B7-4BBB-B391-72AFE7FD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BFE-2A38-4420-A85B-4C4EBCCD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2B2D-E197-4923-91C1-DF929F16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0D9A-3205-4BFB-9B90-31D42A5D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D9E4-21EA-4C31-9B89-428497F8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D103-2C74-45B6-8840-105FF983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20D8-FB13-4416-85CB-299FA25C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E826-EB7C-4057-A09E-E6B7E6E5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F56A-73DF-450C-A861-ADD5A51A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8C5-3022-47E0-A594-BA6CB1D4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AD3-9F62-4F0A-9068-F992FB8B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99A-7E45-4482-A57A-8A7E092B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97E-5FCD-47F6-A19C-EA21E60F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6AD9-6627-4B25-90BB-6E9772CD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180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2636-F94E-4D4C-860C-C592C65ED2B5}" type="slidenum"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1619280" y="646200"/>
            <a:ext cx="6121440" cy="5565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1" descr="http://www.ulb.ac.be/preview1/dre/com/docs/ULB-ligne-droite.jpg"/>
          <p:cNvPicPr/>
          <p:nvPr/>
        </p:nvPicPr>
        <p:blipFill>
          <a:blip r:embed="rId3"/>
          <a:stretch/>
        </p:blipFill>
        <p:spPr>
          <a:xfrm>
            <a:off x="-6480" y="0"/>
            <a:ext cx="5194440" cy="785880"/>
          </a:xfrm>
          <a:prstGeom prst="rect">
            <a:avLst/>
          </a:prstGeom>
          <a:ln w="0">
            <a:noFill/>
          </a:ln>
        </p:spPr>
      </p:pic>
      <p:pic>
        <p:nvPicPr>
          <p:cNvPr id="7" name="Image 8" descr=""/>
          <p:cNvPicPr/>
          <p:nvPr/>
        </p:nvPicPr>
        <p:blipFill>
          <a:blip r:embed="rId4"/>
          <a:stretch/>
        </p:blipFill>
        <p:spPr>
          <a:xfrm>
            <a:off x="-6480" y="6778800"/>
            <a:ext cx="9150480" cy="7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51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0992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8F3D-A0AB-4535-8AF0-748DBC812E94}" type="slidenum"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684360" cy="3549600"/>
          </a:xfrm>
          <a:prstGeom prst="rect">
            <a:avLst/>
          </a:prstGeom>
          <a:ln w="0">
            <a:noFill/>
          </a:ln>
        </p:spPr>
      </p:pic>
      <p:pic>
        <p:nvPicPr>
          <p:cNvPr id="51" name="Image 7" descr=""/>
          <p:cNvPicPr/>
          <p:nvPr/>
        </p:nvPicPr>
        <p:blipFill>
          <a:blip r:embed="rId4"/>
          <a:stretch/>
        </p:blipFill>
        <p:spPr>
          <a:xfrm>
            <a:off x="276120" y="5445000"/>
            <a:ext cx="13176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pic>
        <p:nvPicPr>
          <p:cNvPr id="89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684360" cy="3549600"/>
          </a:xfrm>
          <a:prstGeom prst="rect">
            <a:avLst/>
          </a:prstGeom>
          <a:ln w="0">
            <a:noFill/>
          </a:ln>
        </p:spPr>
      </p:pic>
      <p:pic>
        <p:nvPicPr>
          <p:cNvPr id="90" name="Image 7" descr=""/>
          <p:cNvPicPr/>
          <p:nvPr/>
        </p:nvPicPr>
        <p:blipFill>
          <a:blip r:embed="rId4"/>
          <a:stretch/>
        </p:blipFill>
        <p:spPr>
          <a:xfrm>
            <a:off x="276120" y="5445000"/>
            <a:ext cx="131760" cy="1413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684360" cy="3549600"/>
          </a:xfrm>
          <a:prstGeom prst="rect">
            <a:avLst/>
          </a:prstGeom>
          <a:ln w="0">
            <a:noFill/>
          </a:ln>
        </p:spPr>
      </p:pic>
      <p:pic>
        <p:nvPicPr>
          <p:cNvPr id="131" name="Image 7" descr=""/>
          <p:cNvPicPr/>
          <p:nvPr/>
        </p:nvPicPr>
        <p:blipFill>
          <a:blip r:embed="rId4"/>
          <a:stretch/>
        </p:blipFill>
        <p:spPr>
          <a:xfrm>
            <a:off x="276120" y="5445000"/>
            <a:ext cx="131760" cy="1413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ultigram.ulb.ac.b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640" y="1773000"/>
            <a:ext cx="726912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« Vite fait, bien fait !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834920" y="3141720"/>
            <a:ext cx="705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ou comment exploiter efficacement le temp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dans un cours d’expression orale</a:t>
            </a:r>
            <a:r>
              <a:rPr b="0" lang="fr-FR" sz="20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lang="nl-BE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1"/>
          <p:cNvSpPr/>
          <p:nvPr/>
        </p:nvSpPr>
        <p:spPr>
          <a:xfrm>
            <a:off x="1692360" y="501336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abina Gola, Dag Houdmont, Thea Rim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81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1. Contexte, problématique</a:t>
            </a:r>
            <a:r>
              <a:rPr b="0" lang="nl-B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et intérêt pédagogique</a:t>
            </a:r>
            <a:r>
              <a:rPr b="0" lang="nl-BE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1"/>
          <p:cNvSpPr/>
          <p:nvPr/>
        </p:nvSpPr>
        <p:spPr>
          <a:xfrm>
            <a:off x="873720" y="1989000"/>
            <a:ext cx="810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pratique de l’expression orale → prend beaucoup de tem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s groupes assez grands, relativement peu nombre d’he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Quelle méthode pour activer les connaissances, pratiquer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corriger, avec un suivi personnel, sur mesure 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ublic cibl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 : A2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ompétences développé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 :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lecture/éco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s’exprimer oralement/écr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2. Dispositif mis en pl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oneTexte 1"/>
          <p:cNvSpPr/>
          <p:nvPr/>
        </p:nvSpPr>
        <p:spPr>
          <a:xfrm>
            <a:off x="306720" y="1687680"/>
            <a:ext cx="91479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2.1 Préparation préa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Publication ou distribution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ar le professeur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de l’agen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avec les sujets à traiter en début d’anné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Tâch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our les étudian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Listes de vocabulaire/phrases/expressions thématiqu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à étudier à la mai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voir : répondre à des questions, donner leurs opin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personnelles, préparer des thèmes de discu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Avant le cours : déposer les réponses en ligne (UV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+ dans le portfolio (= toutes les préparations de l’année &gt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version finale la base pour l’examen or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oneTexte 1"/>
          <p:cNvSpPr/>
          <p:nvPr/>
        </p:nvSpPr>
        <p:spPr>
          <a:xfrm>
            <a:off x="684360" y="692280"/>
            <a:ext cx="8561520" cy="68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.2 En clas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Un étudiant présente ses réponses aux ques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sans lecture, production assez spontanée, mots clés devant lu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R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roupe nombreux: par deux ou par petits sous-grou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Les autres étudiant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not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qqs mots clés e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épèt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l’essenti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+ contrôle (par le professeur et par l’étudiant qui a fait l’expos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Feedback immédiat: qqs remarques après chaque inter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R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étudiant note les fautes + rapporter à la fin du cours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A la fin du cours: 2-3 points par étudiant qu’ils doivent amélior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ggestions de matériel en lign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Multigram: 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ultigram.ulb.ac.be/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d’autres sites sur conjugaisons, vocabulaire, grammaire …)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Image 2" descr="Schermafbeelding 2014-12-05 om 11.26.26.png"/>
          <p:cNvPicPr/>
          <p:nvPr/>
        </p:nvPicPr>
        <p:blipFill>
          <a:blip r:embed="rId2"/>
          <a:stretch/>
        </p:blipFill>
        <p:spPr>
          <a:xfrm>
            <a:off x="7093080" y="5157720"/>
            <a:ext cx="9223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3. Résulta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6"/>
          <p:cNvSpPr/>
          <p:nvPr/>
        </p:nvSpPr>
        <p:spPr>
          <a:xfrm>
            <a:off x="687600" y="1268280"/>
            <a:ext cx="7774920" cy="55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Travail pour l’enseigna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 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préparation des thèmes de discu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+ choix de vidéos ou textes à écou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suivi en clas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envoi des remarques à chaque étudiant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- Mise à disposition du matériel de remé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Bénéfices pour les étudiants 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pprentissage en autonom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ticipation active en clas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→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xique-grammaire: apprentissage/approfondiss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suivi sur mesure (en classe + corrections envoyées aprè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préparation tout au long du quadrimestre de l’examen final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4. Bilan et perspec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ZoneTexte 6"/>
          <p:cNvSpPr/>
          <p:nvPr/>
        </p:nvSpPr>
        <p:spPr>
          <a:xfrm>
            <a:off x="726840" y="1268280"/>
            <a:ext cx="843156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Bonne préparation au préalable du sujet → bon fonctionn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Écriture d’un essai sur le sujet traité avec recherche personn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’autres doc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Examen oral/écrit : discussion/questions  sur un des sujets trait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Pour les niveaux plus avancés : sans préparation préa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5. Illustration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gramme niveau intermédiaire (Ba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Image 4" descr="Schermafbeelding 2014-12-07 om 18.29.11.png"/>
          <p:cNvPicPr/>
          <p:nvPr/>
        </p:nvPicPr>
        <p:blipFill>
          <a:blip r:embed="rId1"/>
          <a:stretch/>
        </p:blipFill>
        <p:spPr>
          <a:xfrm>
            <a:off x="4191120" y="1484280"/>
            <a:ext cx="4952880" cy="2527200"/>
          </a:xfrm>
          <a:prstGeom prst="rect">
            <a:avLst/>
          </a:prstGeom>
          <a:ln w="0">
            <a:noFill/>
          </a:ln>
        </p:spPr>
      </p:pic>
      <p:pic>
        <p:nvPicPr>
          <p:cNvPr id="185" name="Image 1" descr="Schermafbeelding 2014-12-09 om 10.48.24.png"/>
          <p:cNvPicPr/>
          <p:nvPr/>
        </p:nvPicPr>
        <p:blipFill>
          <a:blip r:embed="rId2"/>
          <a:stretch/>
        </p:blipFill>
        <p:spPr>
          <a:xfrm>
            <a:off x="826920" y="1484280"/>
            <a:ext cx="3391200" cy="2197080"/>
          </a:xfrm>
          <a:prstGeom prst="rect">
            <a:avLst/>
          </a:prstGeom>
          <a:ln w="0">
            <a:noFill/>
          </a:ln>
        </p:spPr>
      </p:pic>
      <p:pic>
        <p:nvPicPr>
          <p:cNvPr id="186" name="Image 2" descr="Schermafbeelding 2014-12-09 om 10.49.20.png"/>
          <p:cNvPicPr/>
          <p:nvPr/>
        </p:nvPicPr>
        <p:blipFill>
          <a:blip r:embed="rId3"/>
          <a:stretch/>
        </p:blipFill>
        <p:spPr>
          <a:xfrm>
            <a:off x="900000" y="4076640"/>
            <a:ext cx="70358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5. Illustration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gramme niveau avancé (Ba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Image 3" descr="Schermafbeelding 2014-12-07 om 18.11.34.png"/>
          <p:cNvPicPr/>
          <p:nvPr/>
        </p:nvPicPr>
        <p:blipFill>
          <a:blip r:embed="rId1"/>
          <a:stretch/>
        </p:blipFill>
        <p:spPr>
          <a:xfrm>
            <a:off x="684360" y="4508640"/>
            <a:ext cx="6819840" cy="2082600"/>
          </a:xfrm>
          <a:prstGeom prst="rect">
            <a:avLst/>
          </a:prstGeom>
          <a:ln w="0">
            <a:noFill/>
          </a:ln>
        </p:spPr>
      </p:pic>
      <p:pic>
        <p:nvPicPr>
          <p:cNvPr id="189" name="Image 1" descr="Schermafbeelding 2014-12-09 om 08.45.19.png"/>
          <p:cNvPicPr/>
          <p:nvPr/>
        </p:nvPicPr>
        <p:blipFill>
          <a:blip r:embed="rId2"/>
          <a:stretch/>
        </p:blipFill>
        <p:spPr>
          <a:xfrm>
            <a:off x="684360" y="1413000"/>
            <a:ext cx="4965480" cy="2222280"/>
          </a:xfrm>
          <a:prstGeom prst="rect">
            <a:avLst/>
          </a:prstGeom>
          <a:ln w="0">
            <a:noFill/>
          </a:ln>
        </p:spPr>
      </p:pic>
      <p:pic>
        <p:nvPicPr>
          <p:cNvPr id="190" name="Image 2" descr="Schermafbeelding 2014-12-07 om 18.10.41.png"/>
          <p:cNvPicPr/>
          <p:nvPr/>
        </p:nvPicPr>
        <p:blipFill>
          <a:blip r:embed="rId3"/>
          <a:stretch/>
        </p:blipFill>
        <p:spPr>
          <a:xfrm>
            <a:off x="4500720" y="2565360"/>
            <a:ext cx="58924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5. Illustration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ogramme (Ba2) sur UV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Image 1" descr="Schermafbeelding 2014-12-06 om 11.10.40.png"/>
          <p:cNvPicPr/>
          <p:nvPr/>
        </p:nvPicPr>
        <p:blipFill>
          <a:blip r:embed="rId1"/>
          <a:stretch/>
        </p:blipFill>
        <p:spPr>
          <a:xfrm>
            <a:off x="1042920" y="1844640"/>
            <a:ext cx="716436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9:37:16Z</dcterms:created>
  <dc:creator>Utilisateur Windows</dc:creator>
  <dc:description/>
  <dc:language>en-US</dc:language>
  <cp:lastModifiedBy>Utilisateur Windows</cp:lastModifiedBy>
  <cp:lastPrinted>2014-12-09T07:50:55Z</cp:lastPrinted>
  <dcterms:modified xsi:type="dcterms:W3CDTF">2014-12-09T13:36:18Z</dcterms:modified>
  <cp:revision>86</cp:revision>
  <dc:subject/>
  <dc:title>Présentation PowerPoint</dc:title>
</cp:coreProperties>
</file>