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693F-B107-4BB6-AD4B-4BC89388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EC8D-8600-433D-BC7B-708E4F50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2FFF-1954-4D5F-946C-4EE4176F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F0DC-054B-408F-803F-B2BDCDE5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4DBD-35C3-40A8-B4F5-B27582F0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F18B-61A9-4FC1-9CB2-36F692ED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F8B7-7447-4206-999A-4654A1C9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A2BC-C2BB-4535-850A-BAF2D0AA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2BE1-8009-491D-BE59-F75CF705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7FEA-F092-4CDF-B946-DC925398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F61F-A5A8-4351-9938-6DF38B05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FC51-0088-4717-9416-FC00295D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FE58-4130-4FCE-A6B3-E8EB9A3C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41B9-8CD0-431F-AC92-5ACB8688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225D-545E-4062-96BB-4739BE09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2422-A215-4E61-8685-05D4870C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8A73-A592-4271-9E9A-2B869F9E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F68A-F75B-4E14-B6EF-7A17583F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39E9-208C-473D-927F-B3178248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C10B-6D88-4153-9E49-42250236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0A9-22E0-485C-A2CE-998560CE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4768-BD48-42CE-8398-F7FD5248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3B12-8A03-4872-83EA-446213C9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2EB2-F2EC-4520-994D-473B2D82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rcRect l="0" t="0" r="47314" b="30407"/>
          <a:stretch/>
        </p:blipFill>
        <p:spPr>
          <a:xfrm>
            <a:off x="7380360" y="4950000"/>
            <a:ext cx="1763640" cy="190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180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F1DF-4546-4AB4-9173-BF6B3A219614}" type="slidenum">
              <a:rPr b="0" lang="fr-BE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1619280" y="646200"/>
            <a:ext cx="6121440" cy="5565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1" descr="http://www.ulb.ac.be/preview1/dre/com/docs/ULB-ligne-droite.jpg"/>
          <p:cNvPicPr/>
          <p:nvPr/>
        </p:nvPicPr>
        <p:blipFill>
          <a:blip r:embed="rId3"/>
          <a:stretch/>
        </p:blipFill>
        <p:spPr>
          <a:xfrm>
            <a:off x="-6480" y="0"/>
            <a:ext cx="5194440" cy="785880"/>
          </a:xfrm>
          <a:prstGeom prst="rect">
            <a:avLst/>
          </a:prstGeom>
          <a:ln w="0">
            <a:noFill/>
          </a:ln>
        </p:spPr>
      </p:pic>
      <p:pic>
        <p:nvPicPr>
          <p:cNvPr id="7" name="Image 8" descr=""/>
          <p:cNvPicPr/>
          <p:nvPr/>
        </p:nvPicPr>
        <p:blipFill>
          <a:blip r:embed="rId4"/>
          <a:stretch/>
        </p:blipFill>
        <p:spPr>
          <a:xfrm>
            <a:off x="-6480" y="6778800"/>
            <a:ext cx="9150480" cy="7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8" descr=""/>
          <p:cNvPicPr/>
          <p:nvPr/>
        </p:nvPicPr>
        <p:blipFill>
          <a:blip r:embed="rId2"/>
          <a:srcRect l="0" t="0" r="47314" b="30407"/>
          <a:stretch/>
        </p:blipFill>
        <p:spPr>
          <a:xfrm>
            <a:off x="7380360" y="4950000"/>
            <a:ext cx="1763640" cy="190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51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09920" y="638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8EE6-0779-4053-A4AA-E6FAD27162D0}" type="slidenum">
              <a:rPr b="0" lang="fr-BE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684360" cy="3549600"/>
          </a:xfrm>
          <a:prstGeom prst="rect">
            <a:avLst/>
          </a:prstGeom>
          <a:ln w="0">
            <a:noFill/>
          </a:ln>
        </p:spPr>
      </p:pic>
      <p:pic>
        <p:nvPicPr>
          <p:cNvPr id="51" name="Image 7" descr=""/>
          <p:cNvPicPr/>
          <p:nvPr/>
        </p:nvPicPr>
        <p:blipFill>
          <a:blip r:embed="rId4"/>
          <a:stretch/>
        </p:blipFill>
        <p:spPr>
          <a:xfrm>
            <a:off x="276120" y="5445000"/>
            <a:ext cx="131760" cy="14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 8" descr=""/>
          <p:cNvPicPr/>
          <p:nvPr/>
        </p:nvPicPr>
        <p:blipFill>
          <a:blip r:embed="rId2"/>
          <a:srcRect l="0" t="0" r="47314" b="30407"/>
          <a:stretch/>
        </p:blipFill>
        <p:spPr>
          <a:xfrm>
            <a:off x="7380360" y="4950000"/>
            <a:ext cx="1763640" cy="1908000"/>
          </a:xfrm>
          <a:prstGeom prst="rect">
            <a:avLst/>
          </a:prstGeom>
          <a:ln w="0">
            <a:noFill/>
          </a:ln>
        </p:spPr>
      </p:pic>
      <p:pic>
        <p:nvPicPr>
          <p:cNvPr id="89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684360" cy="3549600"/>
          </a:xfrm>
          <a:prstGeom prst="rect">
            <a:avLst/>
          </a:prstGeom>
          <a:ln w="0">
            <a:noFill/>
          </a:ln>
        </p:spPr>
      </p:pic>
      <p:pic>
        <p:nvPicPr>
          <p:cNvPr id="90" name="Image 7" descr=""/>
          <p:cNvPicPr/>
          <p:nvPr/>
        </p:nvPicPr>
        <p:blipFill>
          <a:blip r:embed="rId4"/>
          <a:stretch/>
        </p:blipFill>
        <p:spPr>
          <a:xfrm>
            <a:off x="276120" y="5445000"/>
            <a:ext cx="131760" cy="1413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e 8" descr=""/>
          <p:cNvPicPr/>
          <p:nvPr/>
        </p:nvPicPr>
        <p:blipFill>
          <a:blip r:embed="rId2"/>
          <a:srcRect l="0" t="0" r="47314" b="30407"/>
          <a:stretch/>
        </p:blipFill>
        <p:spPr>
          <a:xfrm>
            <a:off x="7380360" y="4950000"/>
            <a:ext cx="1763640" cy="1908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684360" cy="3549600"/>
          </a:xfrm>
          <a:prstGeom prst="rect">
            <a:avLst/>
          </a:prstGeom>
          <a:ln w="0">
            <a:noFill/>
          </a:ln>
        </p:spPr>
      </p:pic>
      <p:pic>
        <p:nvPicPr>
          <p:cNvPr id="131" name="Image 7" descr=""/>
          <p:cNvPicPr/>
          <p:nvPr/>
        </p:nvPicPr>
        <p:blipFill>
          <a:blip r:embed="rId4"/>
          <a:stretch/>
        </p:blipFill>
        <p:spPr>
          <a:xfrm>
            <a:off x="276120" y="5445000"/>
            <a:ext cx="131760" cy="1413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ultigram.ulb.ac.b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640" y="1773000"/>
            <a:ext cx="726912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« Vite fait, bien fait !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834920" y="3141720"/>
            <a:ext cx="705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ou comment exploiter efficacement le temp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dans un cours d’expression orale</a:t>
            </a:r>
            <a:r>
              <a:rPr b="0" lang="fr-FR" sz="20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lang="nl-BE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1"/>
          <p:cNvSpPr/>
          <p:nvPr/>
        </p:nvSpPr>
        <p:spPr>
          <a:xfrm>
            <a:off x="1692360" y="501336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abina Gola, Dag Houdmont, Thea Rim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281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1. Contexte, problématique</a:t>
            </a:r>
            <a:r>
              <a:rPr b="0" lang="nl-B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et intérêt pédagogique</a:t>
            </a:r>
            <a:r>
              <a:rPr b="0" lang="nl-BE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1"/>
          <p:cNvSpPr/>
          <p:nvPr/>
        </p:nvSpPr>
        <p:spPr>
          <a:xfrm>
            <a:off x="873720" y="1989000"/>
            <a:ext cx="810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pratique de l’expression orale → prend beaucoup de tem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es groupes assez grands, relativement peu nombre d’he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Quelle méthode pour activer les connaissances, pratiquer 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corriger, avec un suivi personnel, sur mesure 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ublic cibl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 : A2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ompétences développé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 :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lecture/éco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s’exprimer oralement/écr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8281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2. Dispositif mis en pl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ZoneTexte 1"/>
          <p:cNvSpPr/>
          <p:nvPr/>
        </p:nvSpPr>
        <p:spPr>
          <a:xfrm>
            <a:off x="306720" y="1687680"/>
            <a:ext cx="914796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2.1 Préparation préa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Publication ou distribution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ar le professeur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de l’agen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avec les sujets à traiter en début d’anné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Tâch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our les étudian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Listes de vocabulaire/phrases/expressions thématiqu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à étudier à la mai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buClr>
                <a:srgbClr val="000000"/>
              </a:buClr>
              <a:buFont typeface="Calibri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evoir : répondre à des questions, donner leurs opin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personnelles, préparer des thèmes de discu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buClr>
                <a:srgbClr val="000000"/>
              </a:buClr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Avant le cours : déposer les réponses en ligne (UV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+ dans le portfolio (= toutes les préparations de l’année &gt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version finale la base pour l’examen or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oneTexte 1"/>
          <p:cNvSpPr/>
          <p:nvPr/>
        </p:nvSpPr>
        <p:spPr>
          <a:xfrm>
            <a:off x="684360" y="692280"/>
            <a:ext cx="8561520" cy="68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2.2 En clas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Un étudiant présente ses réponses aux ques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sans lecture, production assez spontanée, mots clés devant lu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R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roupe nombreux: par deux ou par petits sous-grou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Les autres étudiant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not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qqs mots clés e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épèt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l’essenti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+ contrôle (par le professeur et par l’étudiant qui a fait l’expos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Feedback immédiat: qqs remarques après chaque interv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R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étudiant note les fautes + rapporter à la fin du cours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A la fin du cours: 2-3 points par étudiant qu’ils doivent amélior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uggestions de matériel en lign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Multigram: 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ultigram.ulb.ac.be/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d’autres sites sur conjugaisons, vocabulaire, grammaire …)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Image 2" descr="Schermafbeelding 2014-12-05 om 11.26.26.png"/>
          <p:cNvPicPr/>
          <p:nvPr/>
        </p:nvPicPr>
        <p:blipFill>
          <a:blip r:embed="rId2"/>
          <a:stretch/>
        </p:blipFill>
        <p:spPr>
          <a:xfrm>
            <a:off x="7093080" y="5157720"/>
            <a:ext cx="9223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3. Résulta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6"/>
          <p:cNvSpPr/>
          <p:nvPr/>
        </p:nvSpPr>
        <p:spPr>
          <a:xfrm>
            <a:off x="687600" y="1268280"/>
            <a:ext cx="7774920" cy="55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Travail pour l’enseigna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 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préparation des thèmes de discu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+ choix de vidéos ou textes à écou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suivi en clas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envoi des remarques à chaque étudiant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- Mise à disposition du matériel de remé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Bénéfices pour les étudiants 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pprentissage en autonom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rticipation active en clas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 →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xique-grammaire: apprentissage/approfondiss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suivi sur mesure (en classe + corrections envoyées aprè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préparation tout au long du quadrimestre de l’examen final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4. Bilan et perspect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ZoneTexte 6"/>
          <p:cNvSpPr/>
          <p:nvPr/>
        </p:nvSpPr>
        <p:spPr>
          <a:xfrm>
            <a:off x="726840" y="1268280"/>
            <a:ext cx="843156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Bonne préparation au préalable du sujet → bon fonctionn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Écriture d’un essai sur le sujet traité avec recherche personn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’autres doc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Examen oral/écrit : discussion/questions  sur un des sujets trait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Pour les niveaux plus avancés : sans préparation préa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5. Illustrations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gramme niveau intermédiaire (Ba2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Image 4" descr="Schermafbeelding 2014-12-07 om 18.29.11.png"/>
          <p:cNvPicPr/>
          <p:nvPr/>
        </p:nvPicPr>
        <p:blipFill>
          <a:blip r:embed="rId1"/>
          <a:stretch/>
        </p:blipFill>
        <p:spPr>
          <a:xfrm>
            <a:off x="4191120" y="1484280"/>
            <a:ext cx="4952880" cy="2527200"/>
          </a:xfrm>
          <a:prstGeom prst="rect">
            <a:avLst/>
          </a:prstGeom>
          <a:ln w="0">
            <a:noFill/>
          </a:ln>
        </p:spPr>
      </p:pic>
      <p:pic>
        <p:nvPicPr>
          <p:cNvPr id="185" name="Image 1" descr="Schermafbeelding 2014-12-09 om 10.48.24.png"/>
          <p:cNvPicPr/>
          <p:nvPr/>
        </p:nvPicPr>
        <p:blipFill>
          <a:blip r:embed="rId2"/>
          <a:stretch/>
        </p:blipFill>
        <p:spPr>
          <a:xfrm>
            <a:off x="826920" y="1484280"/>
            <a:ext cx="3391200" cy="2197080"/>
          </a:xfrm>
          <a:prstGeom prst="rect">
            <a:avLst/>
          </a:prstGeom>
          <a:ln w="0">
            <a:noFill/>
          </a:ln>
        </p:spPr>
      </p:pic>
      <p:pic>
        <p:nvPicPr>
          <p:cNvPr id="186" name="Image 2" descr="Schermafbeelding 2014-12-09 om 10.49.20.png"/>
          <p:cNvPicPr/>
          <p:nvPr/>
        </p:nvPicPr>
        <p:blipFill>
          <a:blip r:embed="rId3"/>
          <a:stretch/>
        </p:blipFill>
        <p:spPr>
          <a:xfrm>
            <a:off x="900000" y="4076640"/>
            <a:ext cx="70358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5. Illustrations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gramme niveau avancé (Ba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Image 3" descr="Schermafbeelding 2014-12-07 om 18.11.34.png"/>
          <p:cNvPicPr/>
          <p:nvPr/>
        </p:nvPicPr>
        <p:blipFill>
          <a:blip r:embed="rId1"/>
          <a:stretch/>
        </p:blipFill>
        <p:spPr>
          <a:xfrm>
            <a:off x="684360" y="4508640"/>
            <a:ext cx="6819840" cy="2082600"/>
          </a:xfrm>
          <a:prstGeom prst="rect">
            <a:avLst/>
          </a:prstGeom>
          <a:ln w="0">
            <a:noFill/>
          </a:ln>
        </p:spPr>
      </p:pic>
      <p:pic>
        <p:nvPicPr>
          <p:cNvPr id="189" name="Image 1" descr="Schermafbeelding 2014-12-09 om 08.45.19.png"/>
          <p:cNvPicPr/>
          <p:nvPr/>
        </p:nvPicPr>
        <p:blipFill>
          <a:blip r:embed="rId2"/>
          <a:stretch/>
        </p:blipFill>
        <p:spPr>
          <a:xfrm>
            <a:off x="684360" y="1413000"/>
            <a:ext cx="4965480" cy="2222280"/>
          </a:xfrm>
          <a:prstGeom prst="rect">
            <a:avLst/>
          </a:prstGeom>
          <a:ln w="0">
            <a:noFill/>
          </a:ln>
        </p:spPr>
      </p:pic>
      <p:pic>
        <p:nvPicPr>
          <p:cNvPr id="190" name="Image 2" descr="Schermafbeelding 2014-12-07 om 18.10.41.png"/>
          <p:cNvPicPr/>
          <p:nvPr/>
        </p:nvPicPr>
        <p:blipFill>
          <a:blip r:embed="rId3"/>
          <a:stretch/>
        </p:blipFill>
        <p:spPr>
          <a:xfrm>
            <a:off x="4500720" y="2565360"/>
            <a:ext cx="58924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5. Illustrations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ogramme (Ba2) sur UV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Image 1" descr="Schermafbeelding 2014-12-06 om 11.10.40.png"/>
          <p:cNvPicPr/>
          <p:nvPr/>
        </p:nvPicPr>
        <p:blipFill>
          <a:blip r:embed="rId1"/>
          <a:stretch/>
        </p:blipFill>
        <p:spPr>
          <a:xfrm>
            <a:off x="1042920" y="1844640"/>
            <a:ext cx="716436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9:37:16Z</dcterms:created>
  <dc:creator>Utilisateur Windows</dc:creator>
  <dc:description/>
  <dc:language>en-US</dc:language>
  <cp:lastModifiedBy>Utilisateur Windows</cp:lastModifiedBy>
  <cp:lastPrinted>2014-12-09T07:50:55Z</cp:lastPrinted>
  <dcterms:modified xsi:type="dcterms:W3CDTF">2014-12-09T13:36:18Z</dcterms:modified>
  <cp:revision>86</cp:revision>
  <dc:subject/>
  <dc:title>Présentation PowerPoint</dc:title>
</cp:coreProperties>
</file>