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5B9-76BE-490B-A465-A5830BFF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F01-18A6-485E-8E90-5C680A7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ABE-40F3-4EB9-9B01-B74E9192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8DE-F088-42B1-887B-F142CFC5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4D1-31DA-49F1-A65C-DBCB2943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C6E9-77B0-4E0F-8664-A19DA59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FE0-CBB9-4078-8F56-5153723B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6354-8884-4B06-9884-70BD59C8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4EC-8E63-4D30-8B30-E03F846F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CD32-ABA2-4F2E-ADC1-A413120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106B-86C1-4572-AE11-3E633E9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C89-47AE-41AF-9FC2-E859FBA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B24F-ED74-4A34-B738-C828F31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6A7B-6348-4E2A-B7EA-8494602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5ECE-2266-4315-9855-AD15007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307-5709-401F-83B2-4A6DA44E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15B-70B9-4814-82C1-BE1CA010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CDD-E118-42E9-877A-41B1C076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77F-9F8A-4997-BB6C-1A3E596B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21E-7ADB-46DE-BB60-C4BACBCB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653-C96F-4C42-A651-47E2A378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455-7505-42C6-BB90-64686BB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AB7-D567-4266-B869-E12889C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945-4A78-4E84-A0FB-E4171B45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8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1465-61B3-47F1-A8D6-38C88B082DF1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619280" y="646200"/>
            <a:ext cx="6121440" cy="556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1" descr="http://www.ulb.ac.be/preview1/dre/com/docs/ULB-ligne-droite.jpg"/>
          <p:cNvPicPr/>
          <p:nvPr/>
        </p:nvPicPr>
        <p:blipFill>
          <a:blip r:embed="rId3"/>
          <a:stretch/>
        </p:blipFill>
        <p:spPr>
          <a:xfrm>
            <a:off x="-6480" y="0"/>
            <a:ext cx="5194440" cy="785880"/>
          </a:xfrm>
          <a:prstGeom prst="rect">
            <a:avLst/>
          </a:prstGeom>
          <a:ln w="0">
            <a:noFill/>
          </a:ln>
        </p:spPr>
      </p:pic>
      <p:pic>
        <p:nvPicPr>
          <p:cNvPr id="7" name="Image 8" descr=""/>
          <p:cNvPicPr/>
          <p:nvPr/>
        </p:nvPicPr>
        <p:blipFill>
          <a:blip r:embed="rId4"/>
          <a:stretch/>
        </p:blipFill>
        <p:spPr>
          <a:xfrm>
            <a:off x="-6480" y="6778800"/>
            <a:ext cx="9150480" cy="7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1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0992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2D01-9C29-4D70-A002-F2AEACFAC751}" type="slidenum">
              <a:rPr b="0" lang="fr-BE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8" descr=""/>
          <p:cNvPicPr/>
          <p:nvPr/>
        </p:nvPicPr>
        <p:blipFill>
          <a:blip r:embed="rId2"/>
          <a:srcRect l="0" t="0" r="47314" b="30407"/>
          <a:stretch/>
        </p:blipFill>
        <p:spPr>
          <a:xfrm>
            <a:off x="7380360" y="4950000"/>
            <a:ext cx="1763640" cy="1908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354960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"/>
          <p:cNvPicPr/>
          <p:nvPr/>
        </p:nvPicPr>
        <p:blipFill>
          <a:blip r:embed="rId4"/>
          <a:stretch/>
        </p:blipFill>
        <p:spPr>
          <a:xfrm>
            <a:off x="276120" y="5445000"/>
            <a:ext cx="131760" cy="141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ultigram.ulb.ac.b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2691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« Vite fait, bien fait !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834920" y="3141720"/>
            <a:ext cx="70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ou comment exploiter efficacement le tem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dans un cours d’expression orale</a:t>
            </a: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nl-BE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1"/>
          <p:cNvSpPr/>
          <p:nvPr/>
        </p:nvSpPr>
        <p:spPr>
          <a:xfrm>
            <a:off x="1692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bina Gola, Dag Houdmont, Thea Ri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. Contexte, problémat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t intérêt pédagogique</a:t>
            </a:r>
            <a:r>
              <a:rPr b="0" lang="nl-B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873720" y="1989000"/>
            <a:ext cx="810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ratique de l’expression orale → prend beaucoup de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groupes assez grands, relativement peu nombre d’he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Quelle méthode pour activer les connaissances, pratique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corriger, avec un suivi personnel, sur mesure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ublic cib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 A2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pétences développ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 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lecture/éc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s’exprimer oralement/écr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2. Dispositif mis en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oneTexte 1"/>
          <p:cNvSpPr/>
          <p:nvPr/>
        </p:nvSpPr>
        <p:spPr>
          <a:xfrm>
            <a:off x="306720" y="1687680"/>
            <a:ext cx="9147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2.1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ublication ou distributi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r le profess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e l’agen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ec les sujets à traiter en début d’ann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âch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ur les étudia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istes de vocabulaire/phrases/expressions théma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à étudier à la m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 : répondre à des questions, donner leurs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nelles, préparer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Avant le cours : déposer les réponses en ligne (UV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+ dans le portfolio (= toutes les préparations de l’année 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version finale la base pour l’examen o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oneTexte 1"/>
          <p:cNvSpPr/>
          <p:nvPr/>
        </p:nvSpPr>
        <p:spPr>
          <a:xfrm>
            <a:off x="684360" y="692280"/>
            <a:ext cx="856152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2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Un étudiant présente ses réponses aux ques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sans lecture, production assez spontanée, mots clés devant 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oupe nombreux: par deux ou par petits sous-grou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autres étudia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qqs mots clés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pèt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’essent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+ contrôle (par le professeur et par l’étudiant qui a fait l’expos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eedback immédiat: qqs remarques après chaqu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étudiant note les fautes + rapporter à la fin du cours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 la fin du cours: 2-3 points par étudiant qu’ils doivent amélio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ggestions de matériel en lig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Multigram: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ultigram.ulb.ac.be/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d’autres sites sur conjugaisons, vocabulaire, grammaire …)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2" descr="Schermafbeelding 2014-12-05 om 11.26.26.png"/>
          <p:cNvPicPr/>
          <p:nvPr/>
        </p:nvPicPr>
        <p:blipFill>
          <a:blip r:embed="rId2"/>
          <a:stretch/>
        </p:blipFill>
        <p:spPr>
          <a:xfrm>
            <a:off x="7093080" y="5157720"/>
            <a:ext cx="922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3. Résult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687600" y="1268280"/>
            <a:ext cx="777492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ravail pour l’enseig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des thèmes de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+ choix de vidéos ou textes à écou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e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envoi des remarques à chaque étudiant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- Mise à disposition du matériel de remé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énéfices pour les étudiants 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entissage en autono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icipation active en clas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→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xique-grammaire: apprentissage/approfondiss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suivi sur mesure (en classe + corrections envoyées aprè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réparation tout au long du quadrimestre de l’examen final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4. Bilan e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726840" y="1268280"/>
            <a:ext cx="843156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Bonne préparation au préalable du sujet → bon fonctionn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Écriture d’un essai sur le sujet traité avec recherche personn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’autres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Examen oral/écrit : discussion/questions  sur un des sujets tra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- Pour les niveaux plus avancés : sans préparation préa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intermédiaire (Ba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4" descr="Schermafbeelding 2014-12-07 om 18.29.11.png"/>
          <p:cNvPicPr/>
          <p:nvPr/>
        </p:nvPicPr>
        <p:blipFill>
          <a:blip r:embed="rId1"/>
          <a:stretch/>
        </p:blipFill>
        <p:spPr>
          <a:xfrm>
            <a:off x="4191120" y="1484280"/>
            <a:ext cx="4952880" cy="25272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" descr="Schermafbeelding 2014-12-09 om 10.48.24.png"/>
          <p:cNvPicPr/>
          <p:nvPr/>
        </p:nvPicPr>
        <p:blipFill>
          <a:blip r:embed="rId2"/>
          <a:stretch/>
        </p:blipFill>
        <p:spPr>
          <a:xfrm>
            <a:off x="826920" y="1484280"/>
            <a:ext cx="339120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Schermafbeelding 2014-12-09 om 10.49.20.png"/>
          <p:cNvPicPr/>
          <p:nvPr/>
        </p:nvPicPr>
        <p:blipFill>
          <a:blip r:embed="rId3"/>
          <a:stretch/>
        </p:blipFill>
        <p:spPr>
          <a:xfrm>
            <a:off x="900000" y="4076640"/>
            <a:ext cx="7035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gramme niveau avancé (Ba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3" descr="Schermafbeelding 2014-12-07 om 18.11.34.png"/>
          <p:cNvPicPr/>
          <p:nvPr/>
        </p:nvPicPr>
        <p:blipFill>
          <a:blip r:embed="rId1"/>
          <a:stretch/>
        </p:blipFill>
        <p:spPr>
          <a:xfrm>
            <a:off x="684360" y="4508640"/>
            <a:ext cx="6819840" cy="2082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" descr="Schermafbeelding 2014-12-09 om 08.45.19.png"/>
          <p:cNvPicPr/>
          <p:nvPr/>
        </p:nvPicPr>
        <p:blipFill>
          <a:blip r:embed="rId2"/>
          <a:stretch/>
        </p:blipFill>
        <p:spPr>
          <a:xfrm>
            <a:off x="684360" y="1413000"/>
            <a:ext cx="4965480" cy="2222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2" descr="Schermafbeelding 2014-12-07 om 18.10.41.png"/>
          <p:cNvPicPr/>
          <p:nvPr/>
        </p:nvPicPr>
        <p:blipFill>
          <a:blip r:embed="rId3"/>
          <a:stretch/>
        </p:blipFill>
        <p:spPr>
          <a:xfrm>
            <a:off x="4500720" y="2565360"/>
            <a:ext cx="5892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re 1"/>
          <p:cNvSpPr/>
          <p:nvPr/>
        </p:nvSpPr>
        <p:spPr>
          <a:xfrm>
            <a:off x="611280" y="620640"/>
            <a:ext cx="828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5. Illustratio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ogramme (Ba2) sur UV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Image 1" descr="Schermafbeelding 2014-12-06 om 11.10.40.png"/>
          <p:cNvPicPr/>
          <p:nvPr/>
        </p:nvPicPr>
        <p:blipFill>
          <a:blip r:embed="rId1"/>
          <a:stretch/>
        </p:blipFill>
        <p:spPr>
          <a:xfrm>
            <a:off x="1042920" y="1844640"/>
            <a:ext cx="716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37:16Z</dcterms:created>
  <dc:creator>Utilisateur Windows</dc:creator>
  <dc:description/>
  <dc:language>en-US</dc:language>
  <cp:lastModifiedBy>Utilisateur Windows</cp:lastModifiedBy>
  <cp:lastPrinted>2014-12-09T07:50:55Z</cp:lastPrinted>
  <dcterms:modified xsi:type="dcterms:W3CDTF">2014-12-09T13:36:18Z</dcterms:modified>
  <cp:revision>86</cp:revision>
  <dc:subject/>
  <dc:title>Présentation PowerPoint</dc:title>
</cp:coreProperties>
</file>