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F54-9AE2-4C13-88E2-8C7C0FE5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C9E-D1F5-431E-915B-4D24DD09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321-F1E4-4734-9DC2-C32F8EBF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35E-9D16-485A-AC2A-4D2FE849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FA7F-1319-42A6-82E2-2640767B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F551-30FA-4D4E-918C-F8AF6A8F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99F-7C0D-45EB-89E6-EFC5F9F3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351C-C699-4379-81CE-7757CA2A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8D3D-C84E-4BA3-8765-9A28A992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ED2C-F062-4B69-8F55-15BA319D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C232-4329-4181-B8B5-7693BAC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542-58E5-4DD0-A27D-E4D36EE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3EE1-A071-4CDA-B061-135C76B3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49F1-4AC4-45F9-9B30-F49AC8F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1546-C311-42CD-B3BB-D55A2709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FF7A-07C5-4574-A91F-6EF1A2F6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4638-6DDA-4627-A86C-8F4D8D1E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E51-034F-42B8-9CF5-B8F4B56D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EE1-2342-48FA-9C32-04D9FF09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211-3C41-4609-A28D-60475613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C61-7B25-407D-831F-E8702D7D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830-E069-43F9-BA4D-2A67E1C2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97A-36F8-48FB-AEF9-D1971C7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3F9-F15F-4B0F-8F95-D0C7E91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8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E299-EEE9-402B-9334-964ACE3B18A4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619280" y="646200"/>
            <a:ext cx="6121440" cy="556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1" descr="http://www.ulb.ac.be/preview1/dre/com/docs/ULB-ligne-droite.jpg"/>
          <p:cNvPicPr/>
          <p:nvPr/>
        </p:nvPicPr>
        <p:blipFill>
          <a:blip r:embed="rId3"/>
          <a:stretch/>
        </p:blipFill>
        <p:spPr>
          <a:xfrm>
            <a:off x="-6480" y="0"/>
            <a:ext cx="5194440" cy="785880"/>
          </a:xfrm>
          <a:prstGeom prst="rect">
            <a:avLst/>
          </a:prstGeom>
          <a:ln w="0">
            <a:noFill/>
          </a:ln>
        </p:spPr>
      </p:pic>
      <p:pic>
        <p:nvPicPr>
          <p:cNvPr id="7" name="Image 8" descr=""/>
          <p:cNvPicPr/>
          <p:nvPr/>
        </p:nvPicPr>
        <p:blipFill>
          <a:blip r:embed="rId4"/>
          <a:stretch/>
        </p:blipFill>
        <p:spPr>
          <a:xfrm>
            <a:off x="-6480" y="6778800"/>
            <a:ext cx="9150480" cy="7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1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0992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05F3-D893-4056-BB89-95AF52317ECF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5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89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13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ultigram.ulb.ac.b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2691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« Vite fait, bien fait !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834920" y="3141720"/>
            <a:ext cx="70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ou comment exploiter efficacement le tem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dans un cours d’expression orale</a:t>
            </a: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nl-BE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1"/>
          <p:cNvSpPr/>
          <p:nvPr/>
        </p:nvSpPr>
        <p:spPr>
          <a:xfrm>
            <a:off x="1692360" y="5013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abina Gola, Dag Houdmont, Thea Rim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. Contexte, problémat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et intérêt pédagog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"/>
          <p:cNvSpPr/>
          <p:nvPr/>
        </p:nvSpPr>
        <p:spPr>
          <a:xfrm>
            <a:off x="873720" y="1989000"/>
            <a:ext cx="810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ratique de l’expression orale → prend beaucoup de te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groupes assez grands, relativement peu nombre d’he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Quelle méthode pour activer les connaissances, pratiquer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corriger, avec un suivi personnel, sur mesure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ublic cib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 A2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mpétences développ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lecture/éc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s’exprimer oralement/écr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2. Dispositif mis en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oneTexte 1"/>
          <p:cNvSpPr/>
          <p:nvPr/>
        </p:nvSpPr>
        <p:spPr>
          <a:xfrm>
            <a:off x="306720" y="1687680"/>
            <a:ext cx="9147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2.1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ublication ou distributio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ar le professeu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e l’agen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ec les sujets à traiter en début d’ann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âch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our les étudia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istes de vocabulaire/phrases/expressions thémat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à étudier à la m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 : répondre à des questions, donner leurs opin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ersonnelles, préparer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ant le cours : déposer les réponses en ligne (UV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+ dans le portfolio (= toutes les préparations de l’année 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version finale la base pour l’examen or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oneTexte 1"/>
          <p:cNvSpPr/>
          <p:nvPr/>
        </p:nvSpPr>
        <p:spPr>
          <a:xfrm>
            <a:off x="684360" y="692280"/>
            <a:ext cx="856152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2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Un étudiant présente ses réponses aux ques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sans lecture, production assez spontanée, mots clés devant l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roupe nombreux: par deux ou par petits sous-grou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es autres étudian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o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qqs mots clés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pè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’essent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+ contrôle (par le professeur et par l’étudiant qui a fait l’expos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Feedback immédiat: qqs remarques après chaqu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étudiant note les fautes + rapporter à la fin du cours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 la fin du cours: 2-3 points par étudiant qu’ils doivent amélio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ggestions de matériel en lig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Multigram: 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ultigram.ulb.ac.be/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d’autres sites sur conjugaisons, vocabulaire, grammaire …)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Image 2" descr="Schermafbeelding 2014-12-05 om 11.26.26.png"/>
          <p:cNvPicPr/>
          <p:nvPr/>
        </p:nvPicPr>
        <p:blipFill>
          <a:blip r:embed="rId2"/>
          <a:stretch/>
        </p:blipFill>
        <p:spPr>
          <a:xfrm>
            <a:off x="7093080" y="5157720"/>
            <a:ext cx="922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3. Résult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687600" y="1268280"/>
            <a:ext cx="777492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Travail pour l’enseig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+ choix de vidéos ou textes à éco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en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envoi des remarques à chaque étudiant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- Mise à disposition du matériel de remé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Bénéfices pour les étudiants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entissage en autono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ticipation active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→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xique-grammaire: apprentissage/approfondiss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sur mesure (en classe + corrections envoyées aprè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tout au long du quadrimestre de l’examen final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4. Bilan et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726840" y="1268280"/>
            <a:ext cx="843156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Bonne préparation au préalable du sujet → bon fonctionn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Écriture d’un essai sur le sujet traité avec recherche personn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’autres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Examen oral/écrit : discussion/questions  sur un des sujets trai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Pour les niveaux plus avancés : sans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intermédiaire (Ba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4" descr="Schermafbeelding 2014-12-07 om 18.29.11.png"/>
          <p:cNvPicPr/>
          <p:nvPr/>
        </p:nvPicPr>
        <p:blipFill>
          <a:blip r:embed="rId1"/>
          <a:stretch/>
        </p:blipFill>
        <p:spPr>
          <a:xfrm>
            <a:off x="4191120" y="1484280"/>
            <a:ext cx="4952880" cy="252720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" descr="Schermafbeelding 2014-12-09 om 10.48.24.png"/>
          <p:cNvPicPr/>
          <p:nvPr/>
        </p:nvPicPr>
        <p:blipFill>
          <a:blip r:embed="rId2"/>
          <a:stretch/>
        </p:blipFill>
        <p:spPr>
          <a:xfrm>
            <a:off x="826920" y="1484280"/>
            <a:ext cx="3391200" cy="2197080"/>
          </a:xfrm>
          <a:prstGeom prst="rect">
            <a:avLst/>
          </a:prstGeom>
          <a:ln w="0">
            <a:noFill/>
          </a:ln>
        </p:spPr>
      </p:pic>
      <p:pic>
        <p:nvPicPr>
          <p:cNvPr id="186" name="Image 2" descr="Schermafbeelding 2014-12-09 om 10.49.20.png"/>
          <p:cNvPicPr/>
          <p:nvPr/>
        </p:nvPicPr>
        <p:blipFill>
          <a:blip r:embed="rId3"/>
          <a:stretch/>
        </p:blipFill>
        <p:spPr>
          <a:xfrm>
            <a:off x="900000" y="4076640"/>
            <a:ext cx="7035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avancé (Ba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Schermafbeelding 2014-12-07 om 18.11.34.png"/>
          <p:cNvPicPr/>
          <p:nvPr/>
        </p:nvPicPr>
        <p:blipFill>
          <a:blip r:embed="rId1"/>
          <a:stretch/>
        </p:blipFill>
        <p:spPr>
          <a:xfrm>
            <a:off x="684360" y="4508640"/>
            <a:ext cx="6819840" cy="2082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" descr="Schermafbeelding 2014-12-09 om 08.45.19.png"/>
          <p:cNvPicPr/>
          <p:nvPr/>
        </p:nvPicPr>
        <p:blipFill>
          <a:blip r:embed="rId2"/>
          <a:stretch/>
        </p:blipFill>
        <p:spPr>
          <a:xfrm>
            <a:off x="684360" y="1413000"/>
            <a:ext cx="4965480" cy="2222280"/>
          </a:xfrm>
          <a:prstGeom prst="rect">
            <a:avLst/>
          </a:prstGeom>
          <a:ln w="0">
            <a:noFill/>
          </a:ln>
        </p:spPr>
      </p:pic>
      <p:pic>
        <p:nvPicPr>
          <p:cNvPr id="190" name="Image 2" descr="Schermafbeelding 2014-12-07 om 18.10.41.png"/>
          <p:cNvPicPr/>
          <p:nvPr/>
        </p:nvPicPr>
        <p:blipFill>
          <a:blip r:embed="rId3"/>
          <a:stretch/>
        </p:blipFill>
        <p:spPr>
          <a:xfrm>
            <a:off x="4500720" y="2565360"/>
            <a:ext cx="58924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ogramme (Ba2) sur UV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Image 1" descr="Schermafbeelding 2014-12-06 om 11.10.40.png"/>
          <p:cNvPicPr/>
          <p:nvPr/>
        </p:nvPicPr>
        <p:blipFill>
          <a:blip r:embed="rId1"/>
          <a:stretch/>
        </p:blipFill>
        <p:spPr>
          <a:xfrm>
            <a:off x="1042920" y="1844640"/>
            <a:ext cx="71643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9:37:16Z</dcterms:created>
  <dc:creator>Utilisateur Windows</dc:creator>
  <dc:description/>
  <dc:language>en-US</dc:language>
  <cp:lastModifiedBy>Utilisateur Windows</cp:lastModifiedBy>
  <cp:lastPrinted>2014-12-09T07:50:55Z</cp:lastPrinted>
  <dcterms:modified xsi:type="dcterms:W3CDTF">2014-12-09T13:36:18Z</dcterms:modified>
  <cp:revision>86</cp:revision>
  <dc:subject/>
  <dc:title>Présentation PowerPoint</dc:title>
</cp:coreProperties>
</file>