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1B8-A7FD-4412-B361-43D540C7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3E4-910D-4D07-ADC3-EA1394E1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585-7A6E-46FE-8E8C-77DEA093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CD0-96AE-4715-9FB5-D319672E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169-7D32-4402-BBD9-13BBD84F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293-34D8-45CB-9E45-796ED032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AF7-D80E-4B57-AE6E-7FD94CB8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F17-45AB-4B08-B87A-4BF90B0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AF1-27E9-4A0F-8CA4-265A904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E3B-F46A-4890-8A60-2D43D4F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D11-1019-488B-821B-2DDE96AA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3EB-E06A-4950-AAF7-90E155F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AAD5-AB2F-4820-BFFF-BB1FC891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2s.ugr.es/publications/ficheros/extremadura-2003-1680-1684.pdf" TargetMode="External"/><Relationship Id="rId2" Type="http://schemas.openxmlformats.org/officeDocument/2006/relationships/hyperlink" Target="http://cte.ulb.ac.be/index.php/cellpractice" TargetMode="External"/><Relationship Id="rId3" Type="http://schemas.openxmlformats.org/officeDocument/2006/relationships/hyperlink" Target="http://cte.ulb.ac.be/index.php/cellpractice" TargetMode="External"/><Relationship Id="rId4" Type="http://schemas.openxmlformats.org/officeDocument/2006/relationships/hyperlink" Target="http://cte.ulb.ac.be/index.php/cellpractice" TargetMode="External"/><Relationship Id="rId5" Type="http://schemas.openxmlformats.org/officeDocument/2006/relationships/hyperlink" Target="http://cte.ulb.ac.be/index.php/cellpractice" TargetMode="External"/><Relationship Id="rId6" Type="http://schemas.openxmlformats.org/officeDocument/2006/relationships/hyperlink" Target="http://cte.ulb.ac.be/index.php/cellpractice" TargetMode="External"/><Relationship Id="rId7" Type="http://schemas.openxmlformats.org/officeDocument/2006/relationships/hyperlink" Target="http://cte.ulb.ac.be/index.php/cellpractice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CT has a self-test tool (Self Test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create self-test exercises in two possible way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reating the exercises in an external text file using a text editor (as Word), subsequently, this file is imported to Web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ore info: </a:t>
            </a:r>
            <a:r>
              <a:rPr b="0" i="1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2s.ugr.es/publications/ficheros/extremadura-2003-1680-1684.pd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te.ulb.ac.be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.php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ellpract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8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15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he project (2010-201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dividual exercises to help students to learn &amp; succeed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with étudiants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e fi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ssibility of an automatic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student &amp;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under-construction-sign"/>
          <p:cNvPicPr/>
          <p:nvPr/>
        </p:nvPicPr>
        <p:blipFill>
          <a:blip r:embed="rId3"/>
          <a:stretch/>
        </p:blipFill>
        <p:spPr>
          <a:xfrm>
            <a:off x="4716360" y="3141720"/>
            <a:ext cx="2592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4" descr="logo3lg.eps"/>
          <p:cNvPicPr/>
          <p:nvPr/>
        </p:nvPicPr>
        <p:blipFill>
          <a:blip r:embed="rId1"/>
          <a:stretch/>
        </p:blipFill>
        <p:spPr>
          <a:xfrm>
            <a:off x="6588000" y="54936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3670560" cy="250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518472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465300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30T12:23:25Z</dcterms:modified>
  <cp:revision>81</cp:revision>
  <dc:subject/>
  <dc:title>Malditismo y subversión  en la poética de Fernando Vallejo Un estudio sobre su obra, recepción y estrategia literaria</dc:title>
</cp:coreProperties>
</file>