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AE9-7071-4514-9168-0A1EA730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9F2-C72B-4121-916F-D4717BA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7BA-DFD5-46E7-B486-525156AD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48A-9B81-4D94-B921-FD66A9D3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BC2-1FE8-42B2-B0A0-8C7CC858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121-305E-4271-9313-2309BF34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019-AE3F-482C-B449-2EDF83BB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377-FAE3-40BE-95E7-18D9FED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EB1-84B6-4784-98FB-4C86C911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C1E-C671-41FE-906A-FB1AEBA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8E6-8F4A-44EA-BA04-599DECA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793-8EFB-49EF-B1A1-57AC37E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E930-2F81-4404-B41A-FAF6360A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2s.ugr.es/publications/ficheros/extremadura-2003-1680-1684.pdf" TargetMode="External"/><Relationship Id="rId2" Type="http://schemas.openxmlformats.org/officeDocument/2006/relationships/hyperlink" Target="http://cte.ulb.ac.be/index.php/cellpractice" TargetMode="External"/><Relationship Id="rId3" Type="http://schemas.openxmlformats.org/officeDocument/2006/relationships/hyperlink" Target="http://cte.ulb.ac.be/index.php/cellpractice" TargetMode="External"/><Relationship Id="rId4" Type="http://schemas.openxmlformats.org/officeDocument/2006/relationships/hyperlink" Target="http://cte.ulb.ac.be/index.php/cellpractice" TargetMode="External"/><Relationship Id="rId5" Type="http://schemas.openxmlformats.org/officeDocument/2006/relationships/hyperlink" Target="http://cte.ulb.ac.be/index.php/cellpractice" TargetMode="External"/><Relationship Id="rId6" Type="http://schemas.openxmlformats.org/officeDocument/2006/relationships/hyperlink" Target="http://cte.ulb.ac.be/index.php/cellpractice" TargetMode="External"/><Relationship Id="rId7" Type="http://schemas.openxmlformats.org/officeDocument/2006/relationships/hyperlink" Target="http://cte.ulb.ac.be/index.php/cellpractice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CT has a self-test tool (Self Test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create self-test exercises in two possible way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ing the exercises in an external text file using a text editor (as Word), subsequently, this file is imported to Web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i="1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2s.ugr.es/publications/ficheros/extremadura-2003-1680-1684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te.ulb.ac.be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.php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llpract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8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he project (2010-20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vidual exercises to help students to learn &amp; succeed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with étudiants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e fi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ssibility of an automatic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student &amp;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under-construction-sign"/>
          <p:cNvPicPr/>
          <p:nvPr/>
        </p:nvPicPr>
        <p:blipFill>
          <a:blip r:embed="rId3"/>
          <a:stretch/>
        </p:blipFill>
        <p:spPr>
          <a:xfrm>
            <a:off x="4716360" y="3141720"/>
            <a:ext cx="2592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4" descr="logo3lg.eps"/>
          <p:cNvPicPr/>
          <p:nvPr/>
        </p:nvPicPr>
        <p:blipFill>
          <a:blip r:embed="rId1"/>
          <a:stretch/>
        </p:blipFill>
        <p:spPr>
          <a:xfrm>
            <a:off x="6588000" y="54936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670560" cy="25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653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30T12:23:25Z</dcterms:modified>
  <cp:revision>81</cp:revision>
  <dc:subject/>
  <dc:title>Malditismo y subversión  en la poética de Fernando Vallejo Un estudio sobre su obra, recepción y estrategia literaria</dc:title>
</cp:coreProperties>
</file>