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2761F-927D-4E60-B2D0-819009E2A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9BE76-BAD2-4411-8B13-7349F3B5B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CC76C-E8FF-42AF-8BA8-11D03541F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946C9-454E-4CA5-8CB1-5CFF06B7D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D36AF-F2D8-468E-8D93-D558020FA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8F954-FCF0-4775-942B-F23A3E619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7B657-924D-409F-BAC3-1626B16A1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78422-1D10-46F0-B3C0-7B198D507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58B5B-2E1E-4EB8-8A1E-4EFC57EF3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B824B-DC45-4AB7-B355-1E2585A6B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7A62D-93E5-41FC-BE0E-B1B58B893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6D212-8133-4BD7-9136-D27EB8330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2A90E-5F59-4BC3-814A-84A695CEA5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sci2s.ugr.es/publications/ficheros/extremadura-2003-1680-1684.pdf" TargetMode="External"/><Relationship Id="rId2" Type="http://schemas.openxmlformats.org/officeDocument/2006/relationships/hyperlink" Target="http://cte.ulb.ac.be/index.php/cellpractice" TargetMode="External"/><Relationship Id="rId3" Type="http://schemas.openxmlformats.org/officeDocument/2006/relationships/hyperlink" Target="http://cte.ulb.ac.be/index.php/cellpractice" TargetMode="External"/><Relationship Id="rId4" Type="http://schemas.openxmlformats.org/officeDocument/2006/relationships/hyperlink" Target="http://cte.ulb.ac.be/index.php/cellpractice" TargetMode="External"/><Relationship Id="rId5" Type="http://schemas.openxmlformats.org/officeDocument/2006/relationships/hyperlink" Target="http://cte.ulb.ac.be/index.php/cellpractice" TargetMode="External"/><Relationship Id="rId6" Type="http://schemas.openxmlformats.org/officeDocument/2006/relationships/hyperlink" Target="http://cte.ulb.ac.be/index.php/cellpractice" TargetMode="External"/><Relationship Id="rId7" Type="http://schemas.openxmlformats.org/officeDocument/2006/relationships/hyperlink" Target="http://cte.ulb.ac.be/index.php/cellpractice" TargetMode="External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0920" y="2060640"/>
            <a:ext cx="806436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Microsoft Sans Serif"/>
              </a:rPr>
              <a:t>CALL (Computer-Assisted Language Learning) in-and outside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Microsoft Sans Serif"/>
              </a:rPr>
              <a:t>the language class</a:t>
            </a:r>
            <a:r>
              <a:rPr b="0" lang="es-ES" sz="4400" spc="-1" strike="noStrike">
                <a:solidFill>
                  <a:srgbClr val="000000"/>
                </a:solidFill>
                <a:latin typeface="Microsoft Sans Serif"/>
              </a:rPr>
              <a:t> </a:t>
            </a:r>
            <a:br>
              <a:rPr sz="40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124000" y="5084280"/>
            <a:ext cx="64008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Fernando Díaz Rui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Image 4" descr="logo3lg.eps"/>
          <p:cNvPicPr/>
          <p:nvPr/>
        </p:nvPicPr>
        <p:blipFill>
          <a:blip r:embed="rId1"/>
          <a:stretch/>
        </p:blipFill>
        <p:spPr>
          <a:xfrm>
            <a:off x="7093080" y="333360"/>
            <a:ext cx="1834920" cy="1014480"/>
          </a:xfrm>
          <a:prstGeom prst="rect">
            <a:avLst/>
          </a:prstGeom>
          <a:ln w="0">
            <a:noFill/>
          </a:ln>
        </p:spPr>
      </p:pic>
      <p:pic>
        <p:nvPicPr>
          <p:cNvPr id="44" name="Image 4" descr="logo3lg.eps"/>
          <p:cNvPicPr/>
          <p:nvPr/>
        </p:nvPicPr>
        <p:blipFill>
          <a:blip r:embed="rId2"/>
          <a:stretch/>
        </p:blipFill>
        <p:spPr>
          <a:xfrm>
            <a:off x="7093080" y="333360"/>
            <a:ext cx="1834920" cy="10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10920" y="404280"/>
            <a:ext cx="5832360" cy="17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333399"/>
                </a:solidFill>
                <a:latin typeface="Arial"/>
              </a:rPr>
              <a:t>WebCT: Some easy tricks to use it bet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4360" y="2349360"/>
            <a:ext cx="777528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>
              <a:spcBef>
                <a:spcPts val="799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imple ideas to take advantage of the educational material on the Internet 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-and outside the language class)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99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xercises and tests in virtual learning environments as a learning t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Image 4" descr="logo3lg.eps"/>
          <p:cNvPicPr/>
          <p:nvPr/>
        </p:nvPicPr>
        <p:blipFill>
          <a:blip r:embed="rId1"/>
          <a:stretch/>
        </p:blipFill>
        <p:spPr>
          <a:xfrm>
            <a:off x="6877080" y="476280"/>
            <a:ext cx="1617480" cy="89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404640"/>
            <a:ext cx="548316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333399"/>
                </a:solidFill>
                <a:latin typeface="Arial"/>
              </a:rPr>
              <a:t>C.A.L.L.: My teaching experience (2006-2013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842920" y="2276280"/>
            <a:ext cx="561636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Do I give to my students enough opportunities to learn at hom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How do I use Web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an I do it bett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Image 4" descr="logo3lg.eps"/>
          <p:cNvPicPr/>
          <p:nvPr/>
        </p:nvPicPr>
        <p:blipFill>
          <a:blip r:embed="rId1"/>
          <a:stretch/>
        </p:blipFill>
        <p:spPr>
          <a:xfrm>
            <a:off x="6804000" y="476280"/>
            <a:ext cx="1690560" cy="9349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684360" y="2852640"/>
            <a:ext cx="1955520" cy="189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77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333399"/>
                </a:solidFill>
                <a:latin typeface="Arial"/>
              </a:rPr>
              <a:t>WebCT: Two simple tric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3848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Microsoft Sans Serif"/>
              </a:rPr>
              <a:t>- Split the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yllabus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Microsoft Sans Serif"/>
              </a:rPr>
              <a:t>- When posting links: Be precise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788000" y="1557360"/>
            <a:ext cx="3058920" cy="2041560"/>
          </a:xfrm>
          <a:prstGeom prst="rect">
            <a:avLst/>
          </a:prstGeom>
          <a:ln w="0">
            <a:noFill/>
          </a:ln>
        </p:spPr>
      </p:pic>
      <p:pic>
        <p:nvPicPr>
          <p:cNvPr id="55" name="Image 4" descr="logo3lg.eps"/>
          <p:cNvPicPr/>
          <p:nvPr/>
        </p:nvPicPr>
        <p:blipFill>
          <a:blip r:embed="rId2"/>
          <a:stretch/>
        </p:blipFill>
        <p:spPr>
          <a:xfrm>
            <a:off x="7093080" y="476280"/>
            <a:ext cx="1401480" cy="774720"/>
          </a:xfrm>
          <a:prstGeom prst="rect">
            <a:avLst/>
          </a:prstGeom>
          <a:ln w="0">
            <a:noFill/>
          </a:ln>
        </p:spPr>
      </p:pic>
      <p:sp>
        <p:nvSpPr>
          <p:cNvPr id="56" name="PIJL-RECHTS 15"/>
          <p:cNvSpPr/>
          <p:nvPr/>
        </p:nvSpPr>
        <p:spPr>
          <a:xfrm>
            <a:off x="1835280" y="5300640"/>
            <a:ext cx="2273040" cy="484200"/>
          </a:xfrm>
          <a:prstGeom prst="rightArrow">
            <a:avLst>
              <a:gd name="adj1" fmla="val 50000"/>
              <a:gd name="adj2" fmla="val 116274"/>
            </a:avLst>
          </a:prstGeom>
          <a:solidFill>
            <a:srgbClr val="3333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4859280" y="4365720"/>
            <a:ext cx="2571840" cy="1771560"/>
          </a:xfrm>
          <a:prstGeom prst="rect">
            <a:avLst/>
          </a:prstGeom>
          <a:ln w="0">
            <a:noFill/>
          </a:ln>
        </p:spPr>
      </p:pic>
      <p:sp>
        <p:nvSpPr>
          <p:cNvPr id="58" name="PIJL-RECHTS 15"/>
          <p:cNvSpPr/>
          <p:nvPr/>
        </p:nvSpPr>
        <p:spPr>
          <a:xfrm>
            <a:off x="1908000" y="2276640"/>
            <a:ext cx="2273400" cy="484200"/>
          </a:xfrm>
          <a:prstGeom prst="rightArrow">
            <a:avLst>
              <a:gd name="adj1" fmla="val 50000"/>
              <a:gd name="adj2" fmla="val 116292"/>
            </a:avLst>
          </a:prstGeom>
          <a:solidFill>
            <a:srgbClr val="3333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333399"/>
                </a:solidFill>
                <a:latin typeface="Arial"/>
              </a:rPr>
              <a:t>WebCT: Exerci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557360"/>
            <a:ext cx="785988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ebCT has a self-test tool (Self Test) </a:t>
            </a:r>
            <a:r>
              <a:rPr b="0" lang="en-US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to create self-test exercises in two possible ways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- writing the questions and answers one by on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creating the exercises in an external text file using a text editor (as Word), subsequently, this file is imported to WebCT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Arial"/>
              </a:rPr>
              <a:t>More info: </a:t>
            </a:r>
            <a:r>
              <a:rPr b="0" i="1" lang="en-US" sz="13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sci2s.ugr.es/publications/ficheros/extremadura-2003-1680-1684.pdf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s-ES" sz="13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cte.ulb.ac.be</a:t>
            </a:r>
            <a:r>
              <a:rPr b="0" lang="es-ES" sz="13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/</a:t>
            </a:r>
            <a:r>
              <a:rPr b="0" lang="es-ES" sz="13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index.php</a:t>
            </a:r>
            <a:r>
              <a:rPr b="0" lang="es-ES" sz="13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/</a:t>
            </a:r>
            <a:r>
              <a:rPr b="0" lang="es-ES" sz="13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cellpractic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Image 4" descr="logo3lg.eps"/>
          <p:cNvPicPr/>
          <p:nvPr/>
        </p:nvPicPr>
        <p:blipFill>
          <a:blip r:embed="rId8"/>
          <a:stretch/>
        </p:blipFill>
        <p:spPr>
          <a:xfrm>
            <a:off x="7308720" y="476280"/>
            <a:ext cx="1185840" cy="65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333399"/>
                </a:solidFill>
                <a:latin typeface="Arial"/>
              </a:rPr>
              <a:t>WebCT: Exerci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8000" y="1773000"/>
            <a:ext cx="771516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The project (2010-2012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Individual exercises to help students to learn &amp; succeed </a:t>
            </a:r>
            <a:r>
              <a:rPr b="0" lang="es-E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with étudiants assist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Image 4" descr="logo3lg.eps"/>
          <p:cNvPicPr/>
          <p:nvPr/>
        </p:nvPicPr>
        <p:blipFill>
          <a:blip r:embed="rId1"/>
          <a:stretch/>
        </p:blipFill>
        <p:spPr>
          <a:xfrm>
            <a:off x="7308720" y="476280"/>
            <a:ext cx="1185840" cy="65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333399"/>
                </a:solidFill>
                <a:latin typeface="Arial"/>
              </a:rPr>
              <a:t>WebCT: Exerci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8000" y="1413000"/>
            <a:ext cx="771516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The final targ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Self-tests every chapt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Possibility of an automatic </a:t>
            </a:r>
            <a:r>
              <a:rPr b="0" i="1" lang="es-ES" sz="3600" spc="-1" strike="noStrike">
                <a:solidFill>
                  <a:srgbClr val="000000"/>
                </a:solidFill>
                <a:latin typeface="Arial"/>
              </a:rPr>
              <a:t>feedback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 for the student &amp; </a:t>
            </a:r>
            <a:r>
              <a:rPr b="0" lang="es-ES" sz="3600" spc="-1" strike="noStrike" u="sng">
                <a:solidFill>
                  <a:srgbClr val="000000"/>
                </a:solidFill>
                <a:uFillTx/>
                <a:latin typeface="Arial"/>
              </a:rPr>
              <a:t>information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 for the teach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Image 4" descr="logo3lg.eps"/>
          <p:cNvPicPr/>
          <p:nvPr/>
        </p:nvPicPr>
        <p:blipFill>
          <a:blip r:embed="rId1"/>
          <a:stretch/>
        </p:blipFill>
        <p:spPr>
          <a:xfrm>
            <a:off x="7308720" y="476280"/>
            <a:ext cx="1185840" cy="65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333399"/>
                </a:solidFill>
                <a:latin typeface="Arial"/>
              </a:rPr>
              <a:t>WebCT: Exerci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075520" cy="11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Image 4" descr="logo3lg.eps"/>
          <p:cNvPicPr/>
          <p:nvPr/>
        </p:nvPicPr>
        <p:blipFill>
          <a:blip r:embed="rId1"/>
          <a:stretch/>
        </p:blipFill>
        <p:spPr>
          <a:xfrm>
            <a:off x="7308720" y="476280"/>
            <a:ext cx="1185840" cy="6555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1619280" y="3357720"/>
            <a:ext cx="2521080" cy="18874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under-construction-sign"/>
          <p:cNvPicPr/>
          <p:nvPr/>
        </p:nvPicPr>
        <p:blipFill>
          <a:blip r:embed="rId3"/>
          <a:stretch/>
        </p:blipFill>
        <p:spPr>
          <a:xfrm>
            <a:off x="4716360" y="3141720"/>
            <a:ext cx="2592360" cy="207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Image 4" descr="logo3lg.eps"/>
          <p:cNvPicPr/>
          <p:nvPr/>
        </p:nvPicPr>
        <p:blipFill>
          <a:blip r:embed="rId1"/>
          <a:stretch/>
        </p:blipFill>
        <p:spPr>
          <a:xfrm>
            <a:off x="6588000" y="549360"/>
            <a:ext cx="1552680" cy="85716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4643280" y="4005360"/>
            <a:ext cx="3670560" cy="25099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755640" y="549360"/>
            <a:ext cx="5184720" cy="32400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900000" y="4653000"/>
            <a:ext cx="288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Questions? Commen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21T11:52:25Z</dcterms:created>
  <dc:creator>Fernando</dc:creator>
  <dc:description/>
  <dc:language>en-US</dc:language>
  <cp:lastModifiedBy>Fernando</cp:lastModifiedBy>
  <dcterms:modified xsi:type="dcterms:W3CDTF">2014-01-30T12:23:25Z</dcterms:modified>
  <cp:revision>81</cp:revision>
  <dc:subject/>
  <dc:title>Malditismo y subversión  en la poética de Fernando Vallejo Un estudio sobre su obra, recepción y estrategia literaria</dc:title>
</cp:coreProperties>
</file>