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B16-39F2-4D8A-9868-F5AE3F7D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4F7-9DC5-47EF-9376-1A2E2581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E9C-4824-489A-96EE-D9FFAD92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106-0894-4651-8F5F-69DFF0CB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9BE-EE31-4247-97DB-C3710514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F32-7B73-4178-AC94-0EE02965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142-0EB1-4F23-B4E0-D2DD15A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AE2-DFE4-48C8-9CB0-B553159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5BB-5668-4714-8303-D6AC406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BA3-819F-4042-B8A4-85B66A7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4F1-F029-4C02-8875-FBD46BF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721-EB18-414E-86E9-E0BF292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B3E4-7E94-4878-A4D9-7A307315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2s.ugr.es/publications/ficheros/extremadura-2003-1680-1684.pdf" TargetMode="External"/><Relationship Id="rId2" Type="http://schemas.openxmlformats.org/officeDocument/2006/relationships/hyperlink" Target="http://cte.ulb.ac.be/index.php/cellpractice" TargetMode="External"/><Relationship Id="rId3" Type="http://schemas.openxmlformats.org/officeDocument/2006/relationships/hyperlink" Target="http://cte.ulb.ac.be/index.php/cellpractice" TargetMode="External"/><Relationship Id="rId4" Type="http://schemas.openxmlformats.org/officeDocument/2006/relationships/hyperlink" Target="http://cte.ulb.ac.be/index.php/cellpractice" TargetMode="External"/><Relationship Id="rId5" Type="http://schemas.openxmlformats.org/officeDocument/2006/relationships/hyperlink" Target="http://cte.ulb.ac.be/index.php/cellpractice" TargetMode="External"/><Relationship Id="rId6" Type="http://schemas.openxmlformats.org/officeDocument/2006/relationships/hyperlink" Target="http://cte.ulb.ac.be/index.php/cellpractice" TargetMode="External"/><Relationship Id="rId7" Type="http://schemas.openxmlformats.org/officeDocument/2006/relationships/hyperlink" Target="http://cte.ulb.ac.be/index.php/cellpractice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CT has a self-test tool (Self Test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create self-test exercises in two possible way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ing the exercises in an external text file using a text editor (as Word), subsequently, this file is imported to Web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i="1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2s.ugr.es/publications/ficheros/extremadura-2003-1680-1684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te.ulb.ac.be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php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llpract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8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he project (2010-20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vidual exercises to help students to learn &amp; succeed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with étudiants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e fi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ssibility of an automatic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student &amp;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under-construction-sign"/>
          <p:cNvPicPr/>
          <p:nvPr/>
        </p:nvPicPr>
        <p:blipFill>
          <a:blip r:embed="rId3"/>
          <a:stretch/>
        </p:blipFill>
        <p:spPr>
          <a:xfrm>
            <a:off x="4716360" y="314172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4" descr="logo3lg.eps"/>
          <p:cNvPicPr/>
          <p:nvPr/>
        </p:nvPicPr>
        <p:blipFill>
          <a:blip r:embed="rId1"/>
          <a:stretch/>
        </p:blipFill>
        <p:spPr>
          <a:xfrm>
            <a:off x="6588000" y="54936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670560" cy="25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653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30T12:23:25Z</dcterms:modified>
  <cp:revision>81</cp:revision>
  <dc:subject/>
  <dc:title>Malditismo y subversión  en la poética de Fernando Vallejo Un estudio sobre su obra, recepción y estrategia literaria</dc:title>
</cp:coreProperties>
</file>