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903A-A955-4C72-BE44-89749196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5357-D378-4157-A27A-CBBB167E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D06F-675B-4630-8918-D56E157A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C585-E0F5-49C8-9787-A2286C81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444F-74EE-4526-A6EE-1F24E5C5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3DBB-9B30-47B7-9E07-6E57C8AE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DB04-C2F7-4811-9881-3F75F133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6B4B-745D-485C-BAD3-2602F212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04D9-BDB0-42FA-9E99-299E6183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8D9A-1222-476A-B487-8EF76ED1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D181-27AA-40F1-B581-499A2E94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976-1BB7-4BE9-A824-EF4F6005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FBF9-FBE2-4CA8-9D40-DBF159B5F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i2s.ugr.es/publications/ficheros/extremadura-2003-1680-1684.pdf" TargetMode="External"/><Relationship Id="rId2" Type="http://schemas.openxmlformats.org/officeDocument/2006/relationships/hyperlink" Target="http://cte.ulb.ac.be/index.php/cellpractice" TargetMode="External"/><Relationship Id="rId3" Type="http://schemas.openxmlformats.org/officeDocument/2006/relationships/hyperlink" Target="http://cte.ulb.ac.be/index.php/cellpractice" TargetMode="External"/><Relationship Id="rId4" Type="http://schemas.openxmlformats.org/officeDocument/2006/relationships/hyperlink" Target="http://cte.ulb.ac.be/index.php/cellpractice" TargetMode="External"/><Relationship Id="rId5" Type="http://schemas.openxmlformats.org/officeDocument/2006/relationships/hyperlink" Target="http://cte.ulb.ac.be/index.php/cellpractice" TargetMode="External"/><Relationship Id="rId6" Type="http://schemas.openxmlformats.org/officeDocument/2006/relationships/hyperlink" Target="http://cte.ulb.ac.be/index.php/cellpractice" TargetMode="External"/><Relationship Id="rId7" Type="http://schemas.openxmlformats.org/officeDocument/2006/relationships/hyperlink" Target="http://cte.ulb.ac.be/index.php/cellpractice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060640"/>
            <a:ext cx="8064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CALL (Computer-Assisted Language Learning) in-and outsid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the language class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24000" y="508428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ernando Díaz R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logo3lg.eps"/>
          <p:cNvPicPr/>
          <p:nvPr/>
        </p:nvPicPr>
        <p:blipFill>
          <a:blip r:embed="rId1"/>
          <a:stretch/>
        </p:blipFill>
        <p:spPr>
          <a:xfrm>
            <a:off x="7093080" y="333360"/>
            <a:ext cx="1834920" cy="1014480"/>
          </a:xfrm>
          <a:prstGeom prst="rect">
            <a:avLst/>
          </a:prstGeom>
          <a:ln w="0">
            <a:noFill/>
          </a:ln>
        </p:spPr>
      </p:pic>
      <p:pic>
        <p:nvPicPr>
          <p:cNvPr id="44" name="Image 4" descr="logo3lg.eps"/>
          <p:cNvPicPr/>
          <p:nvPr/>
        </p:nvPicPr>
        <p:blipFill>
          <a:blip r:embed="rId2"/>
          <a:stretch/>
        </p:blipFill>
        <p:spPr>
          <a:xfrm>
            <a:off x="7093080" y="333360"/>
            <a:ext cx="183492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583236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Some easy tricks to use it b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5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mple ideas to take advantage of the educational material on the Internet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and outside the language class)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ercises and tests in virtual learning environments as a learn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4" descr="logo3lg.eps"/>
          <p:cNvPicPr/>
          <p:nvPr/>
        </p:nvPicPr>
        <p:blipFill>
          <a:blip r:embed="rId1"/>
          <a:stretch/>
        </p:blipFill>
        <p:spPr>
          <a:xfrm>
            <a:off x="6877080" y="476280"/>
            <a:ext cx="16174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54831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C.A.L.L.: My teaching experience (2006-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42920" y="2276280"/>
            <a:ext cx="56163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o I give to my students enough opportunities to learn at 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ow do I use Web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n I do it be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4" descr="logo3lg.eps"/>
          <p:cNvPicPr/>
          <p:nvPr/>
        </p:nvPicPr>
        <p:blipFill>
          <a:blip r:embed="rId1"/>
          <a:stretch/>
        </p:blipFill>
        <p:spPr>
          <a:xfrm>
            <a:off x="6804000" y="476280"/>
            <a:ext cx="1690560" cy="93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2852640"/>
            <a:ext cx="195552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Two simple tri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icrosoft Sans Serif"/>
              </a:rPr>
              <a:t>- Split the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yllabu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icrosoft Sans Serif"/>
              </a:rPr>
              <a:t>- When posting links: Be precis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058920" cy="2041560"/>
          </a:xfrm>
          <a:prstGeom prst="rect">
            <a:avLst/>
          </a:prstGeom>
          <a:ln w="0">
            <a:noFill/>
          </a:ln>
        </p:spPr>
      </p:pic>
      <p:pic>
        <p:nvPicPr>
          <p:cNvPr id="55" name="Image 4" descr="logo3lg.eps"/>
          <p:cNvPicPr/>
          <p:nvPr/>
        </p:nvPicPr>
        <p:blipFill>
          <a:blip r:embed="rId2"/>
          <a:stretch/>
        </p:blipFill>
        <p:spPr>
          <a:xfrm>
            <a:off x="7093080" y="476280"/>
            <a:ext cx="1401480" cy="774720"/>
          </a:xfrm>
          <a:prstGeom prst="rect">
            <a:avLst/>
          </a:prstGeom>
          <a:ln w="0">
            <a:noFill/>
          </a:ln>
        </p:spPr>
      </p:pic>
      <p:sp>
        <p:nvSpPr>
          <p:cNvPr id="56" name="PIJL-RECHTS 15"/>
          <p:cNvSpPr/>
          <p:nvPr/>
        </p:nvSpPr>
        <p:spPr>
          <a:xfrm>
            <a:off x="1835280" y="5300640"/>
            <a:ext cx="2273040" cy="484200"/>
          </a:xfrm>
          <a:prstGeom prst="rightArrow">
            <a:avLst>
              <a:gd name="adj1" fmla="val 50000"/>
              <a:gd name="adj2" fmla="val 116274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859280" y="4365720"/>
            <a:ext cx="2571840" cy="1771560"/>
          </a:xfrm>
          <a:prstGeom prst="rect">
            <a:avLst/>
          </a:prstGeom>
          <a:ln w="0">
            <a:noFill/>
          </a:ln>
        </p:spPr>
      </p:pic>
      <p:sp>
        <p:nvSpPr>
          <p:cNvPr id="58" name="PIJL-RECHTS 15"/>
          <p:cNvSpPr/>
          <p:nvPr/>
        </p:nvSpPr>
        <p:spPr>
          <a:xfrm>
            <a:off x="1908000" y="2276640"/>
            <a:ext cx="2273400" cy="484200"/>
          </a:xfrm>
          <a:prstGeom prst="rightArrow">
            <a:avLst>
              <a:gd name="adj1" fmla="val 50000"/>
              <a:gd name="adj2" fmla="val 116292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7859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CT has a self-test tool (Self Test)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create self-test exercises in two possible way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- writing the questions and answers one by 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reating the exercises in an external text file using a text editor (as Word), subsequently, this file is imported to WebC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More info: </a:t>
            </a:r>
            <a:r>
              <a:rPr b="0" i="1" lang="en-US" sz="13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i2s.ugr.es/publications/ficheros/extremadura-2003-1680-1684.pd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te.ulb.ac.be</a:t>
            </a: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ndex.php</a:t>
            </a: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ellpract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mage 4" descr="logo3lg.eps"/>
          <p:cNvPicPr/>
          <p:nvPr/>
        </p:nvPicPr>
        <p:blipFill>
          <a:blip r:embed="rId8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771516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he project (2010-201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dividual exercises to help students to learn &amp; succeed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with étudiants assi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mage 4" descr="logo3lg.eps"/>
          <p:cNvPicPr/>
          <p:nvPr/>
        </p:nvPicPr>
        <p:blipFill>
          <a:blip r:embed="rId1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The final tar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elf-tests every chap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ossibility of an automatic </a:t>
            </a:r>
            <a:r>
              <a:rPr b="0" i="1" lang="es-ES" sz="3600" spc="-1" strike="noStrike">
                <a:solidFill>
                  <a:srgbClr val="000000"/>
                </a:solidFill>
                <a:latin typeface="Arial"/>
              </a:rPr>
              <a:t>feedback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for the student &amp;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for the teac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 4" descr="logo3lg.eps"/>
          <p:cNvPicPr/>
          <p:nvPr/>
        </p:nvPicPr>
        <p:blipFill>
          <a:blip r:embed="rId1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mage 4" descr="logo3lg.eps"/>
          <p:cNvPicPr/>
          <p:nvPr/>
        </p:nvPicPr>
        <p:blipFill>
          <a:blip r:embed="rId1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19280" y="3357720"/>
            <a:ext cx="2521080" cy="1887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under-construction-sign"/>
          <p:cNvPicPr/>
          <p:nvPr/>
        </p:nvPicPr>
        <p:blipFill>
          <a:blip r:embed="rId3"/>
          <a:stretch/>
        </p:blipFill>
        <p:spPr>
          <a:xfrm>
            <a:off x="4716360" y="3141720"/>
            <a:ext cx="259236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4" descr="logo3lg.eps"/>
          <p:cNvPicPr/>
          <p:nvPr/>
        </p:nvPicPr>
        <p:blipFill>
          <a:blip r:embed="rId1"/>
          <a:stretch/>
        </p:blipFill>
        <p:spPr>
          <a:xfrm>
            <a:off x="6588000" y="549360"/>
            <a:ext cx="1552680" cy="8571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43280" y="4005360"/>
            <a:ext cx="3670560" cy="2509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55640" y="549360"/>
            <a:ext cx="5184720" cy="3240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00000" y="4653000"/>
            <a:ext cx="28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Questions? 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11:52:25Z</dcterms:created>
  <dc:creator>Fernando</dc:creator>
  <dc:description/>
  <dc:language>en-US</dc:language>
  <cp:lastModifiedBy>Fernando</cp:lastModifiedBy>
  <dcterms:modified xsi:type="dcterms:W3CDTF">2014-01-30T12:23:25Z</dcterms:modified>
  <cp:revision>81</cp:revision>
  <dc:subject/>
  <dc:title>Malditismo y subversión  en la poética de Fernando Vallejo Un estudio sobre su obra, recepción y estrategia literaria</dc:title>
</cp:coreProperties>
</file>