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96C-26F2-4D40-A53E-EDB34149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18A-3AFE-46AE-A7E7-972926A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C8B-EFFD-4CA5-A379-F264D010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41B-AA9B-4F69-9626-961B7B60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F2A-DD5E-4ADF-8F48-D194B0D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EA8-7B29-47CC-8D82-45E3A26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3E3-4864-42DF-8665-FC1ADD5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EB3-663F-4B37-8D88-97B6847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FA5-93FA-4F50-B189-9E439AE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59A-BF83-462B-9863-ED200B7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3D7-7A65-40C5-949B-7607C18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3B4-F116-4D5B-988D-EA3ABD7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1B92-6AC4-4140-94DC-EAAEBCCE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2s.ugr.es/publications/ficheros/extremadura-2003-1680-1684.pdf" TargetMode="External"/><Relationship Id="rId2" Type="http://schemas.openxmlformats.org/officeDocument/2006/relationships/hyperlink" Target="http://cte.ulb.ac.be/index.php/cellpractice" TargetMode="External"/><Relationship Id="rId3" Type="http://schemas.openxmlformats.org/officeDocument/2006/relationships/hyperlink" Target="http://cte.ulb.ac.be/index.php/cellpractice" TargetMode="External"/><Relationship Id="rId4" Type="http://schemas.openxmlformats.org/officeDocument/2006/relationships/hyperlink" Target="http://cte.ulb.ac.be/index.php/cellpractice" TargetMode="External"/><Relationship Id="rId5" Type="http://schemas.openxmlformats.org/officeDocument/2006/relationships/hyperlink" Target="http://cte.ulb.ac.be/index.php/cellpractice" TargetMode="External"/><Relationship Id="rId6" Type="http://schemas.openxmlformats.org/officeDocument/2006/relationships/hyperlink" Target="http://cte.ulb.ac.be/index.php/cellpractice" TargetMode="External"/><Relationship Id="rId7" Type="http://schemas.openxmlformats.org/officeDocument/2006/relationships/hyperlink" Target="http://cte.ulb.ac.be/index.php/cellpractice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CT has a self-test tool (Self Test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create self-test exercises in two possible way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reating the exercises in an external text file using a text editor (as Word), subsequently, this file is imported to Web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i="1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2s.ugr.es/publications/ficheros/extremadura-2003-1680-1684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te.ulb.ac.be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.php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1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llpract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8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15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he project (2010-20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vidual exercises to help students to learn &amp; succeed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with étudiants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e fi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ssibility of an automatic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student &amp;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for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under-construction-sign"/>
          <p:cNvPicPr/>
          <p:nvPr/>
        </p:nvPicPr>
        <p:blipFill>
          <a:blip r:embed="rId3"/>
          <a:stretch/>
        </p:blipFill>
        <p:spPr>
          <a:xfrm>
            <a:off x="4716360" y="314172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4" descr="logo3lg.eps"/>
          <p:cNvPicPr/>
          <p:nvPr/>
        </p:nvPicPr>
        <p:blipFill>
          <a:blip r:embed="rId1"/>
          <a:stretch/>
        </p:blipFill>
        <p:spPr>
          <a:xfrm>
            <a:off x="6588000" y="54936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670560" cy="25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653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30T12:23:25Z</dcterms:modified>
  <cp:revision>81</cp:revision>
  <dc:subject/>
  <dc:title>Malditismo y subversión  en la poética de Fernando Vallejo Un estudio sobre su obra, recepción y estrategia literaria</dc:title>
</cp:coreProperties>
</file>