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238-5973-4E68-946D-74C1E968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79D0-09DE-4BE5-A861-B728E8BE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ADBF-314F-4075-9F08-C3B9CFFF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8CD3-6690-409E-B39C-F7E78DD3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7087-28D8-470B-A618-08619522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C58-58AC-45D3-8625-F32D311E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904-623B-44F2-BAAB-D48A2A1B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553D-5501-4277-8628-570CC300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A3FF-CCB8-49AF-B3DD-051651CB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97D4-5109-4307-88E6-5FC1DE6A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8A46-87A1-497B-A0B0-EC749B46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207F-5E57-4590-9E8F-BD546B5E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588E-5A40-4016-8561-5EE00F59A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060640"/>
            <a:ext cx="8064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CALL (Computer-Assisted Language Learning) in-and outsid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the language class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24000" y="508428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ernando Díaz R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logo3lg.eps"/>
          <p:cNvPicPr/>
          <p:nvPr/>
        </p:nvPicPr>
        <p:blipFill>
          <a:blip r:embed="rId1"/>
          <a:stretch/>
        </p:blipFill>
        <p:spPr>
          <a:xfrm>
            <a:off x="7093080" y="333360"/>
            <a:ext cx="1834920" cy="1014480"/>
          </a:xfrm>
          <a:prstGeom prst="rect">
            <a:avLst/>
          </a:prstGeom>
          <a:ln w="0">
            <a:noFill/>
          </a:ln>
        </p:spPr>
      </p:pic>
      <p:pic>
        <p:nvPicPr>
          <p:cNvPr id="44" name="Image 4" descr="logo3lg.eps"/>
          <p:cNvPicPr/>
          <p:nvPr/>
        </p:nvPicPr>
        <p:blipFill>
          <a:blip r:embed="rId2"/>
          <a:stretch/>
        </p:blipFill>
        <p:spPr>
          <a:xfrm>
            <a:off x="7093080" y="333360"/>
            <a:ext cx="183492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583236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Some easy tricks to use it b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5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mple ideas to take advantage of the educational material on the Internet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and outside the language class)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ercises and tests in virtual learning environments as a learn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4" descr="logo3lg.eps"/>
          <p:cNvPicPr/>
          <p:nvPr/>
        </p:nvPicPr>
        <p:blipFill>
          <a:blip r:embed="rId1"/>
          <a:stretch/>
        </p:blipFill>
        <p:spPr>
          <a:xfrm>
            <a:off x="6877080" y="476280"/>
            <a:ext cx="16174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54831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C.A.L.L.: My teaching experience (2006-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42920" y="2276280"/>
            <a:ext cx="56163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o I give to my students enough opportunities to learn at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w do I use Web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n I do it b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logo3lg.eps"/>
          <p:cNvPicPr/>
          <p:nvPr/>
        </p:nvPicPr>
        <p:blipFill>
          <a:blip r:embed="rId1"/>
          <a:stretch/>
        </p:blipFill>
        <p:spPr>
          <a:xfrm>
            <a:off x="6804000" y="476280"/>
            <a:ext cx="1690560" cy="93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195552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Two simple tr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- Split the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yllabu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- When posting links: Be precis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058920" cy="2041560"/>
          </a:xfrm>
          <a:prstGeom prst="rect">
            <a:avLst/>
          </a:prstGeom>
          <a:ln w="0">
            <a:noFill/>
          </a:ln>
        </p:spPr>
      </p:pic>
      <p:pic>
        <p:nvPicPr>
          <p:cNvPr id="55" name="Image 4" descr="logo3lg.eps"/>
          <p:cNvPicPr/>
          <p:nvPr/>
        </p:nvPicPr>
        <p:blipFill>
          <a:blip r:embed="rId2"/>
          <a:stretch/>
        </p:blipFill>
        <p:spPr>
          <a:xfrm>
            <a:off x="7093080" y="476280"/>
            <a:ext cx="1401480" cy="774720"/>
          </a:xfrm>
          <a:prstGeom prst="rect">
            <a:avLst/>
          </a:prstGeom>
          <a:ln w="0">
            <a:noFill/>
          </a:ln>
        </p:spPr>
      </p:pic>
      <p:sp>
        <p:nvSpPr>
          <p:cNvPr id="56" name="PIJL-RECHTS 15"/>
          <p:cNvSpPr/>
          <p:nvPr/>
        </p:nvSpPr>
        <p:spPr>
          <a:xfrm>
            <a:off x="1835280" y="5300640"/>
            <a:ext cx="2273040" cy="484200"/>
          </a:xfrm>
          <a:prstGeom prst="rightArrow">
            <a:avLst>
              <a:gd name="adj1" fmla="val 50000"/>
              <a:gd name="adj2" fmla="val 116274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859280" y="4365720"/>
            <a:ext cx="2571840" cy="1771560"/>
          </a:xfrm>
          <a:prstGeom prst="rect">
            <a:avLst/>
          </a:prstGeom>
          <a:ln w="0">
            <a:noFill/>
          </a:ln>
        </p:spPr>
      </p:pic>
      <p:sp>
        <p:nvSpPr>
          <p:cNvPr id="58" name="PIJL-RECHTS 15"/>
          <p:cNvSpPr/>
          <p:nvPr/>
        </p:nvSpPr>
        <p:spPr>
          <a:xfrm>
            <a:off x="1908000" y="2276640"/>
            <a:ext cx="2273400" cy="484200"/>
          </a:xfrm>
          <a:prstGeom prst="rightArrow">
            <a:avLst>
              <a:gd name="adj1" fmla="val 50000"/>
              <a:gd name="adj2" fmla="val 116292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715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CT has a self-test tool (Self Test) that allows the designer to create self-test exercises in two possible way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writing the questions and answers one by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creating the exercises in an external text file using a text editor (as Word), subsequently, this file is imported to Web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y project (2010-2013): individual exercises to help students to learn &amp; succ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he final targ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lf-tests every chap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ssibility of an automatic feedback for the student &amp; information for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715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OM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ore infor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cte.ulb.ac.be/index.php/cell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132000" y="256536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 4" descr="logo3lg.eps"/>
          <p:cNvPicPr/>
          <p:nvPr/>
        </p:nvPicPr>
        <p:blipFill>
          <a:blip r:embed="rId1"/>
          <a:stretch/>
        </p:blipFill>
        <p:spPr>
          <a:xfrm>
            <a:off x="6516720" y="620640"/>
            <a:ext cx="1552680" cy="8571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00720" y="3789360"/>
            <a:ext cx="3670200" cy="2509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55640" y="549360"/>
            <a:ext cx="4897440" cy="3060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42920" y="4653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11:52:25Z</dcterms:created>
  <dc:creator>Fernando</dc:creator>
  <dc:description/>
  <dc:language>en-US</dc:language>
  <cp:lastModifiedBy>Fernando</cp:lastModifiedBy>
  <dcterms:modified xsi:type="dcterms:W3CDTF">2014-01-29T21:40:09Z</dcterms:modified>
  <cp:revision>66</cp:revision>
  <dc:subject/>
  <dc:title>Malditismo y subversión  en la poética de Fernando Vallejo Un estudio sobre su obra, recepción y estrategia literaria</dc:title>
</cp:coreProperties>
</file>