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7AA-5433-4917-94C2-B8C6E3EA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821-DDEA-49B9-864F-59C7164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D76-0BE7-4002-B7F4-57543ACA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C97-3FE6-47AF-9630-8C03F404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86D-9148-47D0-88A4-E8A10D7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204-813F-4DED-9998-119A4C1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707-42F9-4C16-AEA5-9EE9A5F2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394-7392-4B90-961E-B5C1986C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BBB-A174-426B-BD71-AA3EB2F3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45E-FF73-4D47-9B4C-0F370AB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64D-8FC8-461C-A9AE-F2350F0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5DF-34F8-44D6-A477-47B8729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4E5-71F5-483C-85A3-FF15A298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CALL (Computer-Assisted Language Learning) in-and outsi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 language clas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508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ernando Díaz R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logo3lg.eps"/>
          <p:cNvPicPr/>
          <p:nvPr/>
        </p:nvPicPr>
        <p:blipFill>
          <a:blip r:embed="rId1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Image 4" descr="logo3lg.eps"/>
          <p:cNvPicPr/>
          <p:nvPr/>
        </p:nvPicPr>
        <p:blipFill>
          <a:blip r:embed="rId2"/>
          <a:stretch/>
        </p:blipFill>
        <p:spPr>
          <a:xfrm>
            <a:off x="7093080" y="333360"/>
            <a:ext cx="1834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832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Some easy tricks to use i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mple ideas to take advantage of the educational material on the Interne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and outside the language class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ercises and tests in virtual learning environments as a lear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4" descr="logo3lg.eps"/>
          <p:cNvPicPr/>
          <p:nvPr/>
        </p:nvPicPr>
        <p:blipFill>
          <a:blip r:embed="rId1"/>
          <a:stretch/>
        </p:blipFill>
        <p:spPr>
          <a:xfrm>
            <a:off x="6877080" y="476280"/>
            <a:ext cx="1617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483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C.A.L.L.: My teaching experience (2006-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42920" y="2276280"/>
            <a:ext cx="56163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 I give to my students enough opportunities to learn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do I use Web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I do it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logo3lg.eps"/>
          <p:cNvPicPr/>
          <p:nvPr/>
        </p:nvPicPr>
        <p:blipFill>
          <a:blip r:embed="rId1"/>
          <a:stretch/>
        </p:blipFill>
        <p:spPr>
          <a:xfrm>
            <a:off x="6804000" y="476280"/>
            <a:ext cx="169056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955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Two simple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Split th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yllabu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- When posting links: Be preci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05892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logo3lg.eps"/>
          <p:cNvPicPr/>
          <p:nvPr/>
        </p:nvPicPr>
        <p:blipFill>
          <a:blip r:embed="rId2"/>
          <a:stretch/>
        </p:blipFill>
        <p:spPr>
          <a:xfrm>
            <a:off x="7093080" y="476280"/>
            <a:ext cx="1401480" cy="774720"/>
          </a:xfrm>
          <a:prstGeom prst="rect">
            <a:avLst/>
          </a:prstGeom>
          <a:ln w="0">
            <a:noFill/>
          </a:ln>
        </p:spPr>
      </p:pic>
      <p:sp>
        <p:nvSpPr>
          <p:cNvPr id="56" name="PIJL-RECHTS 15"/>
          <p:cNvSpPr/>
          <p:nvPr/>
        </p:nvSpPr>
        <p:spPr>
          <a:xfrm>
            <a:off x="1835280" y="5300640"/>
            <a:ext cx="2273040" cy="484200"/>
          </a:xfrm>
          <a:prstGeom prst="rightArrow">
            <a:avLst>
              <a:gd name="adj1" fmla="val 50000"/>
              <a:gd name="adj2" fmla="val 116274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57184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PIJL-RECHTS 15"/>
          <p:cNvSpPr/>
          <p:nvPr/>
        </p:nvSpPr>
        <p:spPr>
          <a:xfrm>
            <a:off x="1908000" y="2276640"/>
            <a:ext cx="2273400" cy="484200"/>
          </a:xfrm>
          <a:prstGeom prst="rightArrow">
            <a:avLst>
              <a:gd name="adj1" fmla="val 50000"/>
              <a:gd name="adj2" fmla="val 116292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CT has a self-test tool (Self Test) that allows the designer to create self-test exercises in two possible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writing the questions and answers one b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creating the exercises in an external text file using a text editor (as Word), subsequently, this file is imported to Web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y project (2010-2013): individual exercises to help students to learn &amp; suc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final tar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f-tests every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sibility of an automatic feedback for the student &amp; information fo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WebCT: 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cte.ulb.ac.be/index.php/cell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logo3lg.eps"/>
          <p:cNvPicPr/>
          <p:nvPr/>
        </p:nvPicPr>
        <p:blipFill>
          <a:blip r:embed="rId1"/>
          <a:stretch/>
        </p:blipFill>
        <p:spPr>
          <a:xfrm>
            <a:off x="7308720" y="476280"/>
            <a:ext cx="1185840" cy="655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4" descr="logo3lg.eps"/>
          <p:cNvPicPr/>
          <p:nvPr/>
        </p:nvPicPr>
        <p:blipFill>
          <a:blip r:embed="rId1"/>
          <a:stretch/>
        </p:blipFill>
        <p:spPr>
          <a:xfrm>
            <a:off x="6516720" y="620640"/>
            <a:ext cx="155268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6702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4897440" cy="306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4653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2:25Z</dcterms:created>
  <dc:creator>Fernando</dc:creator>
  <dc:description/>
  <dc:language>en-US</dc:language>
  <cp:lastModifiedBy>Fernando</cp:lastModifiedBy>
  <dcterms:modified xsi:type="dcterms:W3CDTF">2014-01-29T21:40:09Z</dcterms:modified>
  <cp:revision>66</cp:revision>
  <dc:subject/>
  <dc:title>Malditismo y subversión  en la poética de Fernando Vallejo Un estudio sobre su obra, recepción y estrategia literaria</dc:title>
</cp:coreProperties>
</file>