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20F-6FDD-4DE2-97CF-54BA7B22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E23-C750-40DB-8D8D-7D9A5B37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0E8-703D-46D4-985F-EE1DC934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A22-9397-4CA4-BF48-5910E16A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398-2E75-4CC8-A83B-56DCD84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900-5DD1-46DC-898C-7C8364F3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18E-01E1-408C-A277-DA184FF7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E8D-84B3-4C68-BAD5-7838D1F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D3F-94BE-4E4B-AEA0-E97C666F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F40-9167-442E-9531-B01E7EE0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5F2-A812-485C-8CEB-B4FD1436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D74-69E7-4F6F-BA6D-E000848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8720-835F-42BA-9912-9B602256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CT has a self-test tool (Self Test) that allows the designer to create self-test exercises in two possible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creating the exercises in an external text file using a text editor (as Word), subsequently, this file is imported to Web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y project (2010-2013): individual exercises to help students to learn &amp; suc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final tar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sibility of an automatic feedback for the student &amp; information for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or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cte.ulb.ac.be/index.php/cell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4" descr="logo3lg.eps"/>
          <p:cNvPicPr/>
          <p:nvPr/>
        </p:nvPicPr>
        <p:blipFill>
          <a:blip r:embed="rId1"/>
          <a:stretch/>
        </p:blipFill>
        <p:spPr>
          <a:xfrm>
            <a:off x="6516720" y="62064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67020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4897440" cy="306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4653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29T21:40:09Z</dcterms:modified>
  <cp:revision>66</cp:revision>
  <dc:subject/>
  <dc:title>Malditismo y subversión  en la poética de Fernando Vallejo Un estudio sobre su obra, recepción y estrategia literaria</dc:title>
</cp:coreProperties>
</file>